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9F253-59CD-4B2C-82E6-7B1E45436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7A795-B930-49A8-81B5-57A3310C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83A6D-0DF6-4C6D-BFB7-C6DE57A43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A5A8B-F7A6-4982-B5DC-7F5DD72C8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785A7-70AB-4E3C-9A03-233DD271B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4DF3C-00C3-45D7-9673-DD80C880F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8EFBC-BF9A-4072-BFA0-B260C1931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195F5-70CD-4A84-A58C-7D02E8232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0C0D4-1A59-45F6-B610-84AE4E9AF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7C56D-A413-4A98-A969-97078A1BA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0B667-FD97-40CB-AD87-C77F06303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41C6F-1295-46A0-B971-73B7595F4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5716-AE52-4CFD-BE9B-A138D19730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500" fill="hold"/>
                                        <p:tgtEl>
                                          <p:spTgt spid="55">
                                            <p:txEl>
                                              <p:pRg st="3" end="3"/>
                                            </p:txEl>
                                          </p:spTgt>
                                        </p:tgtEl>
                                        <p:attrNameLst>
                                          <p:attrName>ppt_x</p:attrName>
                                        </p:attrNameLst>
                                      </p:cBhvr>
                                      <p:tavLst>
                                        <p:tav tm="0">
                                          <p:val>
                                            <p:strVal val="0.5"/>
                                          </p:val>
                                        </p:tav>
                                        <p:tav tm="100000">
                                          <p:val>
                                            <p:strVal val="#ppt_x"/>
                                          </p:val>
                                        </p:tav>
                                      </p:tavLst>
                                    </p:anim>
                                    <p:anim calcmode="lin" valueType="num">
                                      <p:cBhvr additive="repl">
                                        <p:cTn id="93" dur="500" fill="hold"/>
                                        <p:tgtEl>
                                          <p:spTgt spid="55">
                                            <p:txEl>
                                              <p:pRg st="3" end="3"/>
                                            </p:txEl>
                                          </p:spTgt>
                                        </p:tgtEl>
                                        <p:attrNameLst>
                                          <p:attrName>ppt_y</p:attrName>
                                        </p:attrNameLst>
                                      </p:cBhvr>
                                      <p:tavLst>
                                        <p:tav tm="0">
                                          <p:val>
                                            <p:strVal val="0.5"/>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