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58187-5E35-4A10-B9D2-412A14A8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1293-A461-44A4-BB53-7ECCB45E0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8CB03-9DC3-4B47-AFF4-6EDF5FCCD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BDB32-8CF7-4F5B-8046-EB47FA1BA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218B-99C2-4EFC-8368-CFC5E298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44E8-4D09-435F-9C13-6AC15854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916DC-095A-4EA1-BBDB-C749A257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48C74-A3A9-40A0-88A3-1E0D8DED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F3929-60F9-47B0-B17C-36CE18D20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9D5E-7B36-464B-8C42-A7C94A88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23F9-FC11-491A-909B-893ECE17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4D6D9-2246-4288-9233-0FE69D239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5A4-04AF-4EC3-8B6C-3DB6ABB0F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800"/>
                                        <p:tgtEl>
                                          <p:spTgt spid="55">
                                            <p:txEl>
                                              <p:pRg st="3" end="3"/>
                                            </p:txEl>
                                          </p:spTgt>
                                        </p:tgtEl>
                                      </p:cBhvr>
                                    </p:animEffect>
                                    <p:anim calcmode="lin" valueType="num">
                                      <p:cBhvr additive="repl">
                                        <p:cTn id="92"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