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applause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6FA-C7BD-4846-A8B3-7C95F324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1FC-E716-4577-AA43-AD5F3CF3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19F-0CD4-4FFD-BDC2-D0492682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417-5A0A-43DA-87AB-B1794887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EB88-2DF4-43AB-84B8-86EE7E70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0A20-78DF-4EF7-A9EC-6B571B39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539A-0837-4F27-845D-8118D6F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164B-7D3B-4D18-B375-2A9DDF6D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7DCE-EC7A-4762-B7F0-88AFCEB2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2EE8-8767-408E-B057-A3AB7C53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DC8D-868D-4E7A-AA2F-652F3EEA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41F-08E4-4223-B733-47DD5E68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4D86-9299-4AB0-95E3-D6A141B1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4D3B-AAFA-460E-B6EC-7B57F676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199D-F91D-4E1A-BD8B-3F739978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2AF6-9F41-4FEC-806F-FEC652B4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DB13-6A6A-43DB-997E-7E570D063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6C9-EC00-4F33-9BBF-25098215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A75-10B1-4173-93B3-E85AF15C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21F-4B7A-45AE-BF3F-F67BCB01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9CE-6D6F-4A98-813E-237B3E9E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783-ADCA-4F7F-97C1-9C0AC145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CDC-CB3E-41A7-9595-CED6020F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6CC-E097-4B65-B89E-E00BBC5E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DB7E-1B25-4FC8-9B7E-EDB57C426AAD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7F59-DEB8-4008-B46D-64F73669B6DF}" type="slidenum">
              <a:rPr b="0" lang="ar-SA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 rtl="1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 rtl="1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.il/imgres?imgurl=http://www.yardbirds.org.il/album/album-3/sm_DSCN4663.jpg&amp;imgrefurl=http://www.yardbirds.org.il/album/album-3/album-3.htm&amp;h=375&amp;w=500&amp;sz=57&amp;tbnid=6Ow1K6Lotj4J:&amp;tbnh=95&amp;tbnw=127&amp;start=31&amp;prev=/images%3Fq%3D%25D7%25A1%25D7%25A0%25D7%2595%25D7%25A0%25D7%2599%25D7%25AA%26start%3D20%26hl%3Diw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696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omic Sans MS"/>
              </a:rPr>
              <a:t>موقع كلمات وعبارات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ww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alimat1</a:t>
            </a:r>
            <a:r>
              <a:rPr b="0" lang="he-I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ممتاز – تابع الى السؤال التالي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1403280" y="587700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2492280"/>
            <a:ext cx="314964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هجرة الطيور ليست ميزه خاصه بفصل الربيع ولكننا نلاحظها اكثر في هذا الفصل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تهاجر الطيور مواطنها او تعود اليها لعدة اسباب منها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كثرة الغذاء والحبوب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* التبشير بتغيير المواسم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هجرة الطيور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1189080" y="1557360"/>
            <a:ext cx="96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هجرة الطيور ترمز الى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تغير في حالة الطق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جفاف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- قحل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276640"/>
            <a:ext cx="280836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ar-SY" sz="4400" spc="-1" strike="noStrike">
                <a:solidFill>
                  <a:srgbClr val="00b200"/>
                </a:solidFill>
                <a:latin typeface="Comic Sans MS"/>
              </a:rPr>
              <a:t>خطأ – حاول مره اخرى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316692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كل الاحترام </a:t>
            </a:r>
            <a:br>
              <a:rPr sz="4400"/>
            </a:br>
            <a:r>
              <a:rPr b="1" i="1" lang="ar-SY" sz="4400" spc="-1" strike="noStrike">
                <a:solidFill>
                  <a:srgbClr val="00b200"/>
                </a:solidFill>
                <a:latin typeface="Comic Sans MS"/>
              </a:rPr>
              <a:t>لقد اجبت جيداً على جميع الاسئلة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1547640" y="5950080"/>
            <a:ext cx="938520" cy="720720"/>
          </a:xfrm>
          <a:custGeom>
            <a:avLst/>
            <a:gdLst>
              <a:gd name="textAreaLeft" fmla="*/ 46440 w 938520"/>
              <a:gd name="textAreaRight" fmla="*/ 892080 w 9385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124" h="21600">
                <a:moveTo>
                  <a:pt x="0" y="0"/>
                </a:moveTo>
                <a:lnTo>
                  <a:pt x="28124" y="0"/>
                </a:lnTo>
                <a:lnTo>
                  <a:pt x="28124" y="21600"/>
                </a:lnTo>
                <a:lnTo>
                  <a:pt x="0" y="21600"/>
                </a:lnTo>
                <a:close/>
              </a:path>
              <a:path fill="lightenLess" w="28124" h="21600">
                <a:moveTo>
                  <a:pt x="0" y="0"/>
                </a:moveTo>
                <a:lnTo>
                  <a:pt x="28124" y="0"/>
                </a:lnTo>
                <a:lnTo>
                  <a:pt x="26724" y="1400"/>
                </a:lnTo>
                <a:lnTo>
                  <a:pt x="1400" y="1400"/>
                </a:lnTo>
                <a:close/>
              </a:path>
              <a:path fill="darken" w="28124" h="21600">
                <a:moveTo>
                  <a:pt x="28124" y="0"/>
                </a:moveTo>
                <a:lnTo>
                  <a:pt x="28124" y="21600"/>
                </a:lnTo>
                <a:lnTo>
                  <a:pt x="26724" y="20200"/>
                </a:lnTo>
                <a:lnTo>
                  <a:pt x="26724" y="1400"/>
                </a:lnTo>
                <a:close/>
              </a:path>
              <a:path fill="darkenLess" w="28124" h="21600">
                <a:moveTo>
                  <a:pt x="28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24" y="20200"/>
                </a:lnTo>
                <a:close/>
              </a:path>
              <a:path fill="lighten" w="28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24" h="21600">
                <a:moveTo>
                  <a:pt x="7056" y="10800"/>
                </a:moveTo>
                <a:lnTo>
                  <a:pt x="21069" y="3794"/>
                </a:lnTo>
                <a:lnTo>
                  <a:pt x="21069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2879640" cy="25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48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فصل الربيع يعتبر من اجمل الفصول ، فيه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ar-SY" sz="3200" spc="-1" strike="noStrike">
                <a:solidFill>
                  <a:srgbClr val="703d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طقس يكون معتدلا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السماء تكون صافي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وراق الاشج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تفتح الازها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ينمو العشب الاخضر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703dff"/>
                </a:solidFill>
                <a:latin typeface="Comic Sans MS"/>
              </a:rPr>
              <a:t>تزهر الاشجار</a:t>
            </a:r>
            <a:r>
              <a:rPr b="0" lang="ar-SY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ظواهر فصل الربيع</a:t>
            </a:r>
            <a:r>
              <a:rPr b="0" lang="ar-SY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Comic Sans MS"/>
              </a:rPr>
              <a:t>اي من التالي غير تابع لفصل الربيع ، اضغط على الاجابه الخاطئه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1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السماء صافيه وزرقاء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ساقط الثلوج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في فصل الربيع تتفتح الازهار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649600" y="1967040"/>
            <a:ext cx="3779640" cy="25416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1476360" y="5950080"/>
            <a:ext cx="934920" cy="647640"/>
          </a:xfrm>
          <a:custGeom>
            <a:avLst/>
            <a:gdLst>
              <a:gd name="textAreaLeft" fmla="*/ 41760 w 934920"/>
              <a:gd name="textAreaRight" fmla="*/ 893160 w 934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176" h="21600">
                <a:moveTo>
                  <a:pt x="0" y="0"/>
                </a:moveTo>
                <a:lnTo>
                  <a:pt x="31176" y="0"/>
                </a:lnTo>
                <a:lnTo>
                  <a:pt x="31176" y="21600"/>
                </a:lnTo>
                <a:lnTo>
                  <a:pt x="0" y="21600"/>
                </a:lnTo>
                <a:close/>
              </a:path>
              <a:path fill="lightenLess" w="31176" h="21600">
                <a:moveTo>
                  <a:pt x="0" y="0"/>
                </a:moveTo>
                <a:lnTo>
                  <a:pt x="31176" y="0"/>
                </a:lnTo>
                <a:lnTo>
                  <a:pt x="29776" y="1400"/>
                </a:lnTo>
                <a:lnTo>
                  <a:pt x="1400" y="1400"/>
                </a:lnTo>
                <a:close/>
              </a:path>
              <a:path fill="darken" w="31176" h="21600">
                <a:moveTo>
                  <a:pt x="31176" y="0"/>
                </a:moveTo>
                <a:lnTo>
                  <a:pt x="31176" y="21600"/>
                </a:lnTo>
                <a:lnTo>
                  <a:pt x="29776" y="20200"/>
                </a:lnTo>
                <a:lnTo>
                  <a:pt x="29776" y="1400"/>
                </a:lnTo>
                <a:close/>
              </a:path>
              <a:path fill="darkenLess" w="31176" h="21600">
                <a:moveTo>
                  <a:pt x="31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6" y="20200"/>
                </a:lnTo>
                <a:close/>
              </a:path>
              <a:path fill="lighten" w="31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6" h="21600">
                <a:moveTo>
                  <a:pt x="8582" y="3794"/>
                </a:moveTo>
                <a:lnTo>
                  <a:pt x="22594" y="10800"/>
                </a:lnTo>
                <a:lnTo>
                  <a:pt x="858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خطأ – انا تابع لفصل الربي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627280" y="2200320"/>
            <a:ext cx="3321000" cy="244944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47640" y="587700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ar-SY" sz="4000" spc="-1" strike="noStrike">
                <a:solidFill>
                  <a:srgbClr val="00b200"/>
                </a:solidFill>
                <a:latin typeface="Comic Sans MS"/>
              </a:rPr>
              <a:t>ممتاز – انا غير تابع لفصل الربيع</a:t>
            </a:r>
            <a:r>
              <a:rPr b="0" lang="ar-SY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5452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147636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703dff"/>
                </a:solidFill>
                <a:latin typeface="Comic Sans MS"/>
              </a:rPr>
              <a:t>أحد ميزات فصل الربيع وأجملها هو ظارة تفتح الازهار ، فبعد ان مضى فصل الشتاء بحلته العابسه وامطاره الغزيره ورياحه وعواصفه المخيفه أقبل فصل الربيع ليعوضنا عن كل تلك ، ففيه الازهار المزينه بحلتها الرائعه وألوانها الزهيه والنضره ، ففي فصل الربيع تزهر ازهارا خاصه لا تزهر في باقي الفصول كزهرة شقائق النعمان .</a:t>
            </a:r>
            <a:r>
              <a:rPr b="0" lang="ar-SY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ar-SY" sz="4000" spc="-1" strike="noStrike">
                <a:solidFill>
                  <a:srgbClr val="00b200"/>
                </a:solidFill>
                <a:latin typeface="Comic Sans MS"/>
              </a:rPr>
              <a:t>تفتح الازها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16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ما اسم الزهرة التال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0" lang="he-IL" sz="2800" spc="-1" strike="noStrike">
                <a:solidFill>
                  <a:srgbClr val="703dff"/>
                </a:solidFill>
                <a:latin typeface="Comic Sans MS"/>
              </a:rPr>
              <a:t>- 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الصفير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شقائق النعمان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ar-SY" sz="2800" spc="-1" strike="noStrike">
                <a:solidFill>
                  <a:srgbClr val="703dff"/>
                </a:solidFill>
                <a:latin typeface="Comic Sans MS"/>
              </a:rPr>
              <a:t>- الجوري</a:t>
            </a:r>
            <a:r>
              <a:rPr b="0" lang="ar-SY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06400" y="2317680"/>
            <a:ext cx="2894040" cy="24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6:58:47Z</dcterms:created>
  <dc:creator>student</dc:creator>
  <dc:description/>
  <dc:language>en-US</dc:language>
  <cp:lastModifiedBy>abdallah</cp:lastModifiedBy>
  <dcterms:modified xsi:type="dcterms:W3CDTF">2018-02-12T14:34:59Z</dcterms:modified>
  <cp:revision>5</cp:revision>
  <dc:subject/>
  <dc:title>ظواهر فصل الربيع </dc:title>
</cp:coreProperties>
</file>