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6BDD-19CE-4575-A371-EB9FC212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5EAF-3E81-43D3-8A28-7C1CB771B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BD1-00E8-42BB-B8C0-C01C002E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7C3-F77C-44FE-9440-C2389308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0777-A03F-4251-9AA4-3FB22A4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176-33C8-483A-AA83-38718777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F20-E5D0-4DEB-88DE-B75E73B6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68BE-5AC8-4BB0-B246-408F664D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23C4-4FB5-40F3-91FF-5D69BA3A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2D05-F94D-4906-84D0-2553131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AB4-9FA3-4076-9A61-922626D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E64D-92B1-4C03-A429-BAC04CE0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5B1B-7D7C-4FD3-A3BC-B2B37DC789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ed Rectangle 19"/>
          <p:cNvSpPr/>
          <p:nvPr/>
        </p:nvSpPr>
        <p:spPr>
          <a:xfrm>
            <a:off x="2071800" y="464328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ounded Rectangle 18"/>
          <p:cNvSpPr/>
          <p:nvPr/>
        </p:nvSpPr>
        <p:spPr>
          <a:xfrm>
            <a:off x="2071800" y="2928960"/>
            <a:ext cx="707220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ounded Rectangle 17"/>
          <p:cNvSpPr/>
          <p:nvPr/>
        </p:nvSpPr>
        <p:spPr>
          <a:xfrm>
            <a:off x="3000240" y="1500120"/>
            <a:ext cx="5857920" cy="1285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val 6"/>
          <p:cNvSpPr/>
          <p:nvPr/>
        </p:nvSpPr>
        <p:spPr>
          <a:xfrm>
            <a:off x="357120" y="4857840"/>
            <a:ext cx="1714680" cy="91908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Oval 3"/>
          <p:cNvSpPr/>
          <p:nvPr/>
        </p:nvSpPr>
        <p:spPr>
          <a:xfrm>
            <a:off x="428760" y="3143160"/>
            <a:ext cx="1638000" cy="9954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Oval 1"/>
          <p:cNvSpPr/>
          <p:nvPr/>
        </p:nvSpPr>
        <p:spPr>
          <a:xfrm>
            <a:off x="642960" y="1500120"/>
            <a:ext cx="1781280" cy="927000"/>
          </a:xfrm>
          <a:prstGeom prst="ellipse">
            <a:avLst/>
          </a:prstGeom>
          <a:solidFill>
            <a:srgbClr val="ccc0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357120" y="344880"/>
            <a:ext cx="807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cs typeface="Tahoma"/>
              </a:rPr>
              <a:t>عزيزي المتعلم, تأمل الأحاديث النبوية الشريفة التالية, ثم استخرج منها مادة كيميائية مذكورة في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2500200" y="1646640"/>
            <a:ext cx="64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من قال سبحان الله وبحمده في يوم مائة مرة, حطت خطاياه ولو كانت مثل زبد البحر ). رواه مسل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1857240" y="3096000"/>
            <a:ext cx="72867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 لا تسبي الحمى فإنـها تذهب خطايا  بني آدم كما يذهب الكير خبث الحديد). صحيح مسلم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.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1071720" y="4789080"/>
            <a:ext cx="807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قال عليه الصلاة والسلام: (الحمى من فور جهنم فأبردوها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ea typeface="Tahoma"/>
              </a:rPr>
              <a:t> عنكم بالماء). صحيح مسلم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42960" y="1714680"/>
            <a:ext cx="22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500040" y="3571920"/>
            <a:ext cx="17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3"/>
          <p:cNvSpPr/>
          <p:nvPr/>
        </p:nvSpPr>
        <p:spPr>
          <a:xfrm>
            <a:off x="428760" y="507204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  <a:ea typeface="الشهيد محمد الدره"/>
              </a:rPr>
              <a:t>....................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0" y="571680"/>
            <a:ext cx="8786880" cy="78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عناصر</a:t>
            </a:r>
            <a:r>
              <a:rPr b="0" lang="ar-SA" sz="2400" spc="-1" strike="noStrike" u="sng">
                <a:solidFill>
                  <a:srgbClr val="403152"/>
                </a:solidFill>
                <a:uFillTx/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مواد غير قابلة للتفكيك إلى مواد أبسط منها بالوسائل الفيزيائية والكيميائية العادي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ويمتاز كل عنصر بخواص تميزه عن غيره من العناصر ، ويبلغ عدد العناصر المعروفة لدى الإنسان في الأرض أكثر من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109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عنصراً تم اكتشافها حتى الآ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مركبات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Times New Roman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هي المواد التي تتألف من اتحاد كيميائي بين عنصرين أو أكث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buClr>
                <a:srgbClr val="cc00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c0099"/>
                </a:solidFill>
                <a:uFillTx/>
                <a:latin typeface="Microsoft Sans Serif"/>
                <a:cs typeface="Times New Roman"/>
              </a:rPr>
              <a:t>الخليط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: مادة مكونة من اثنين أو أكثر من المركبات أو العناصر توجد بعضها مع بعض بأي نسبة دون أن تتحد كيميائياً ، ويحتفظ كل منها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بخواصه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المميزة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 </a:t>
            </a:r>
            <a:r>
              <a:rPr b="1" lang="ar-SA" sz="2400" spc="-1" strike="noStrike" u="sng">
                <a:solidFill>
                  <a:srgbClr val="403152"/>
                </a:solidFill>
                <a:uFillTx/>
                <a:latin typeface="Tahoma"/>
                <a:cs typeface="Tahoma"/>
              </a:rPr>
              <a:t>من أشهر أنواع المخاليط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 المحال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2f08"/>
                </a:solidFill>
                <a:uFillTx/>
                <a:latin typeface="Tahoma"/>
                <a:cs typeface="Tahoma"/>
              </a:rPr>
              <a:t>المحلول</a:t>
            </a:r>
            <a:r>
              <a:rPr b="0" lang="ar-SA" sz="2400" spc="-1" strike="noStrike">
                <a:solidFill>
                  <a:srgbClr val="403152"/>
                </a:solidFill>
                <a:latin typeface="Tahoma"/>
                <a:ea typeface="Tahoma"/>
              </a:rPr>
              <a:t>: </a:t>
            </a: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cs typeface="Microsoft Sans Serif"/>
              </a:rPr>
              <a:t>خليط من مادتين, إحداهما مذيب والأخرى مذاب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**يمكن أن يكون الخليط جامداً مثل خليط من السكر والملح أو سائلاً كالمحاليل المختلفة مثل القهوة والشاي أو غازا مثل الهواء المؤلف في معظمه من الأكسجين والنيتروجين</a:t>
            </a:r>
            <a:r>
              <a:rPr b="0" lang="en-US" sz="2400" spc="-1" strike="noStrike">
                <a:solidFill>
                  <a:srgbClr val="403152"/>
                </a:solidFill>
                <a:latin typeface="Microsoft Sans Serif"/>
                <a:ea typeface="Microsoft Sans Serif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0" y="571680"/>
            <a:ext cx="878688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** تتبع النشاط العملي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3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 بالكتاب المدرسي للتمييز بين المركب والمخلوط, ثم أكمل الجدول في تدريب (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2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-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) ص 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64</a:t>
            </a:r>
            <a:r>
              <a:rPr b="0" lang="ar-SA" sz="6000" spc="-1" strike="noStrike">
                <a:solidFill>
                  <a:srgbClr val="006600"/>
                </a:solidFill>
                <a:latin typeface="Calibri"/>
                <a:ea typeface="Andalus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7"/>
          <p:cNvGrpSpPr/>
          <p:nvPr/>
        </p:nvGrpSpPr>
        <p:grpSpPr>
          <a:xfrm>
            <a:off x="141120" y="609480"/>
            <a:ext cx="8843400" cy="5562360"/>
            <a:chOff x="141120" y="609480"/>
            <a:chExt cx="8843400" cy="5562360"/>
          </a:xfrm>
        </p:grpSpPr>
        <p:sp>
          <p:nvSpPr>
            <p:cNvPr id="110" name="Line 4"/>
            <p:cNvSpPr/>
            <p:nvPr/>
          </p:nvSpPr>
          <p:spPr>
            <a:xfrm>
              <a:off x="4394880" y="609480"/>
              <a:ext cx="0" cy="556236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" name="Group 6"/>
            <p:cNvGrpSpPr/>
            <p:nvPr/>
          </p:nvGrpSpPr>
          <p:grpSpPr>
            <a:xfrm>
              <a:off x="141120" y="643680"/>
              <a:ext cx="8843400" cy="5527440"/>
              <a:chOff x="141120" y="643680"/>
              <a:chExt cx="8843400" cy="5527440"/>
            </a:xfrm>
          </p:grpSpPr>
          <p:graphicFrame>
            <p:nvGraphicFramePr>
              <p:cNvPr id="112" name="Object 3"/>
              <p:cNvGraphicFramePr/>
              <p:nvPr/>
            </p:nvGraphicFramePr>
            <p:xfrm>
              <a:off x="145080" y="643680"/>
              <a:ext cx="8835120" cy="5527440"/>
            </p:xfrm>
            <a:graphic>
              <a:graphicData uri="http://schemas.openxmlformats.org/presentationml/2006/ole">
                <p:oleObj progId="Word.Document.12" r:id="rId2" spid="">
                  <p:embed/>
                  <p:pic>
                    <p:nvPicPr>
                      <p:cNvPr id="113" name="Object 3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145080" y="643680"/>
                        <a:ext cx="8835120" cy="5527440"/>
                      </a:xfrm>
                      <a:prstGeom prst="rect">
                        <a:avLst/>
                      </a:prstGeom>
                      <a:ln w="9360">
                        <a:solidFill>
                          <a:srgbClr val="990000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p:sp>
            <p:nvSpPr>
              <p:cNvPr id="114" name="Line 5"/>
              <p:cNvSpPr/>
              <p:nvPr/>
            </p:nvSpPr>
            <p:spPr>
              <a:xfrm>
                <a:off x="141120" y="1645560"/>
                <a:ext cx="884340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8"/>
          <p:cNvSpPr/>
          <p:nvPr/>
        </p:nvSpPr>
        <p:spPr>
          <a:xfrm>
            <a:off x="4419720" y="1676520"/>
            <a:ext cx="44956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1</a:t>
            </a:r>
            <a:r>
              <a:rPr b="0" lang="en-US" sz="1600" spc="-1" strike="noStrike">
                <a:solidFill>
                  <a:srgbClr val="006600"/>
                </a:solidFill>
                <a:latin typeface="Calibri"/>
                <a:ea typeface="Andalu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أن توجد مكوناته ب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مختلف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يوجد اتحاد كيميائي بين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ا تفقد مكونات الخليط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خواصها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مكن فصلها بالوسائل الفيز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304920" y="175248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1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لمكونات المركب نسب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وزن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ثابت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2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وجد دليل على حصول اتحاد كيميائي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3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تختلف خواص المركب عن خواص مكوناته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4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) </a:t>
            </a:r>
            <a:r>
              <a:rPr b="0" lang="ar-SA" sz="2800" spc="-1" strike="noStrike">
                <a:solidFill>
                  <a:srgbClr val="006600"/>
                </a:solidFill>
                <a:latin typeface="Tahoma"/>
                <a:cs typeface="Tahoma"/>
              </a:rPr>
              <a:t>يفصل بالوسائل الكيميائية</a:t>
            </a:r>
            <a:r>
              <a:rPr b="0" lang="en-US" sz="2800" spc="-1" strike="noStrike">
                <a:solidFill>
                  <a:srgbClr val="0066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0" y="357120"/>
            <a:ext cx="8858160" cy="58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632423"/>
                </a:solidFill>
                <a:uFillTx/>
                <a:latin typeface="Times New Roman"/>
                <a:cs typeface="Times New Roman"/>
              </a:rPr>
              <a:t>رابعاً: التقوي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1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صمّم خريطة مفاهيم توضح ما يلي</a:t>
            </a:r>
            <a:r>
              <a:rPr b="1" lang="ar-SA" sz="2800" spc="-1" strike="noStrike">
                <a:solidFill>
                  <a:srgbClr val="262626"/>
                </a:solidFill>
                <a:latin typeface="Tahoma"/>
                <a:ea typeface="Tahoma"/>
              </a:rPr>
              <a:t>: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                         أشكال المادة – تعريفها – أمثلة عليها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س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/ 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اختار الإجابة الصحيحة فيما يأت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  <a:cs typeface="Times New Roman"/>
              </a:rPr>
              <a:t>قدرتنا على استخلاص الأكسجين خلال عملية التنفس, دلالة على أن الهواء الجوي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  <a:ea typeface="Times New Roman"/>
              </a:rPr>
              <a:t>   أ-  مركب        ب-  خليط           ج-  عنصر      د-  الإجابتان أ و 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جميع ما يأتي من أمثلة المخاليط:, في</a:t>
            </a:r>
            <a:r>
              <a:rPr b="1" lang="ar-SA" sz="2800" spc="-1" strike="noStrike" u="sng">
                <a:solidFill>
                  <a:srgbClr val="262626"/>
                </a:solidFill>
                <a:uFillTx/>
                <a:latin typeface="Calibri"/>
              </a:rPr>
              <a:t>ما عدا</a:t>
            </a:r>
            <a:r>
              <a:rPr b="1" lang="ar-SA" sz="2800" spc="-1" strike="noStrike">
                <a:solidFill>
                  <a:srgbClr val="262626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62626"/>
                </a:solidFill>
                <a:latin typeface="Calibri"/>
              </a:rPr>
              <a:t>   أ-  سبائك الذهب      ب-  صدأ الحديد          ج-  القهوة         د-  الشا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928800" y="968400"/>
            <a:ext cx="72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632423"/>
                </a:solidFill>
                <a:uFillTx/>
                <a:latin typeface="Arial"/>
                <a:cs typeface="Times New Roman"/>
              </a:rPr>
              <a:t>خامساً: التوسّع والإثرا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14200" y="1378800"/>
            <a:ext cx="873144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Arial"/>
                <a:cs typeface="Times New Roman"/>
              </a:rPr>
              <a:t>ابحث في الانترنت أو الكتب عن الموضوع التالي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في الآيات الواردة في سورة الكهف والتي تتحدث عن قصة ذي القرنين مع يأجوج ومأجوج ذُكرت مادتين,  أذكريهما وحددي أنواعهما واستعمالاتهم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214200" y="-776520"/>
            <a:ext cx="8929800" cy="86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03152"/>
                </a:solidFill>
                <a:latin typeface="Arial"/>
                <a:cs typeface="FS_Free"/>
              </a:rPr>
              <a:t>م</a:t>
            </a:r>
            <a:r>
              <a:rPr b="1" lang="ar-SA" sz="3600" spc="-1" strike="noStrike" u="sng">
                <a:solidFill>
                  <a:srgbClr val="17365d"/>
                </a:solidFill>
                <a:uFillTx/>
                <a:latin typeface="Arial"/>
                <a:cs typeface="FS_Free"/>
              </a:rPr>
              <a:t>ن خلال ما سبق, هل يمكننا أن نتساءل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هل لهذه المواد نفس الصفات الظاهرية (الملمس, الرائحة, اللون, .....)؟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4031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برأيك, لماذا تختلف المواد عن بعضها؟ 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هل لإختلاف أشكالها علاقة بإختلاف تركيب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6"/>
          <p:cNvSpPr/>
          <p:nvPr/>
        </p:nvSpPr>
        <p:spPr>
          <a:xfrm>
            <a:off x="5429160" y="2286000"/>
            <a:ext cx="2143080" cy="71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1500120" y="2286000"/>
            <a:ext cx="2143080" cy="642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357120" y="357120"/>
            <a:ext cx="835812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18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3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/ 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أنظر إلى الكؤوس الثلاث أمامك, سمّي هذه الوحدات التي فيها؟ 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403152"/>
                </a:solidFill>
                <a:latin typeface="Arial"/>
                <a:cs typeface="الشهيد محمد الدره"/>
              </a:rPr>
              <a:t>س</a:t>
            </a:r>
            <a:r>
              <a:rPr b="0" lang="ar-SA" sz="24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4</a:t>
            </a:r>
            <a:r>
              <a:rPr b="0" lang="ar-SA" sz="2000" spc="-1" strike="noStrike">
                <a:solidFill>
                  <a:srgbClr val="403152"/>
                </a:solidFill>
                <a:latin typeface="Tahoma"/>
                <a:ea typeface="Tahoma"/>
              </a:rPr>
              <a:t>/  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حاول أن تربط علاقة بين هذه الوحدات وبين المواد الموجودة أمام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428760" y="2124720"/>
            <a:ext cx="8143920" cy="26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99"/>
                </a:solidFill>
                <a:latin typeface="Tahoma"/>
                <a:ea typeface="Tahoma"/>
              </a:rPr>
              <a:t>                  اسم الوحدة                                    اسم  الما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ahoma"/>
              </a:rPr>
              <a:t>                        ...............................                                  ..............................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..............................                                           ...............................                                   ...............................                                            ...............................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357120" y="433512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  <a:cs typeface="الشهيد محمد الدره"/>
              </a:rPr>
              <a:t>س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  <a:ea typeface="الشهيد محمد الدره"/>
              </a:rPr>
              <a:t>/ </a:t>
            </a: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توقع كم شكلاً للمادة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403152"/>
                </a:solidFill>
                <a:latin typeface="Arial"/>
                <a:ea typeface="الشهيد محمد الدره"/>
              </a:rPr>
              <a:t>............................................................................................................................................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18"/>
          <p:cNvSpPr txBox="1"/>
          <p:nvPr/>
        </p:nvSpPr>
        <p:spPr>
          <a:xfrm>
            <a:off x="990720" y="76320"/>
            <a:ext cx="76197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+mn-cs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+mn-cs"/>
              <a:ea typeface="+mn-cs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14200" y="2714760"/>
            <a:ext cx="821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604a7b"/>
                </a:solidFill>
                <a:latin typeface="Andalus"/>
                <a:cs typeface="Andalus"/>
              </a:rPr>
              <a:t>أشكال المادة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0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533520" y="1000080"/>
            <a:ext cx="830556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تتكون المادة من وحدات متناهية في الصغر تسمى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إذا اتحدت الذرات فإنها تكوّن جزيئ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  <a:cs typeface="Times New Roman"/>
              </a:rPr>
              <a:t>يمكن أن تكون الجزيئات متشابهة الذرات, كما يمكن أن تكون مختلفة الذرا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85920" y="304920"/>
            <a:ext cx="671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600" spc="-1" strike="noStrike" u="sng">
                <a:solidFill>
                  <a:srgbClr val="ff0000"/>
                </a:solidFill>
                <a:uFillTx/>
                <a:latin typeface="Andalus"/>
                <a:cs typeface="Andalus"/>
              </a:rPr>
              <a:t>مكونات المادة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Group 19"/>
          <p:cNvGrpSpPr/>
          <p:nvPr/>
        </p:nvGrpSpPr>
        <p:grpSpPr>
          <a:xfrm>
            <a:off x="642960" y="2000160"/>
            <a:ext cx="3352680" cy="1713960"/>
            <a:chOff x="642960" y="2000160"/>
            <a:chExt cx="3352680" cy="1713960"/>
          </a:xfrm>
        </p:grpSpPr>
        <p:pic>
          <p:nvPicPr>
            <p:cNvPr id="69" name="Picture 13" descr="الجزيئ "/>
            <p:cNvPicPr/>
            <p:nvPr/>
          </p:nvPicPr>
          <p:blipFill>
            <a:blip r:embed="rId2"/>
            <a:srcRect l="51902" t="21128" r="21315" b="71237"/>
            <a:stretch/>
          </p:blipFill>
          <p:spPr>
            <a:xfrm>
              <a:off x="1176120" y="2000160"/>
              <a:ext cx="2286000" cy="98172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0" name="Text Box 16"/>
            <p:cNvSpPr/>
            <p:nvPr/>
          </p:nvSpPr>
          <p:spPr>
            <a:xfrm>
              <a:off x="642960" y="3071520"/>
              <a:ext cx="335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 يمثل ذرة هيدروجين وذرة أكسجين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4286160" y="4500720"/>
            <a:ext cx="3809880" cy="2296440"/>
            <a:chOff x="4286160" y="4500720"/>
            <a:chExt cx="3809880" cy="2296440"/>
          </a:xfrm>
        </p:grpSpPr>
        <p:pic>
          <p:nvPicPr>
            <p:cNvPr id="72" name="Picture 15" descr="الجزيئ "/>
            <p:cNvPicPr/>
            <p:nvPr/>
          </p:nvPicPr>
          <p:blipFill>
            <a:blip r:embed="rId3"/>
            <a:srcRect l="50662" t="38099" r="20379" b="48285"/>
            <a:stretch/>
          </p:blipFill>
          <p:spPr>
            <a:xfrm>
              <a:off x="4895640" y="4500720"/>
              <a:ext cx="2743200" cy="15818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3" name="Text Box 16"/>
            <p:cNvSpPr/>
            <p:nvPr/>
          </p:nvSpPr>
          <p:spPr>
            <a:xfrm>
              <a:off x="4286160" y="6154560"/>
              <a:ext cx="380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لكل من جزيء هيدروجين وجزيء أكسجين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20"/>
          <p:cNvGrpSpPr/>
          <p:nvPr/>
        </p:nvGrpSpPr>
        <p:grpSpPr>
          <a:xfrm>
            <a:off x="1143000" y="4357800"/>
            <a:ext cx="2971800" cy="2009520"/>
            <a:chOff x="1143000" y="4357800"/>
            <a:chExt cx="2971800" cy="2009520"/>
          </a:xfrm>
        </p:grpSpPr>
        <p:pic>
          <p:nvPicPr>
            <p:cNvPr id="75" name="Picture 13" descr="الجزيئ "/>
            <p:cNvPicPr/>
            <p:nvPr/>
          </p:nvPicPr>
          <p:blipFill>
            <a:blip r:embed="rId4"/>
            <a:srcRect l="14291" t="19947" r="61210" b="60323"/>
            <a:stretch/>
          </p:blipFill>
          <p:spPr>
            <a:xfrm>
              <a:off x="1295280" y="4357800"/>
              <a:ext cx="2743200" cy="164124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76" name="Text Box 14"/>
            <p:cNvSpPr/>
            <p:nvPr/>
          </p:nvSpPr>
          <p:spPr>
            <a:xfrm>
              <a:off x="1143000" y="599904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</a:rPr>
                <a:t>نموذج لجزيء الماء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4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6900"/>
                            </p:stCondLst>
                            <p:childTnLst>
                              <p:par>
                                <p:cTn id="25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9400"/>
                            </p:stCondLst>
                            <p:childTnLst>
                              <p:par>
                                <p:cTn id="32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8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228600" y="12952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ا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: هي أصغر جزء من العنصر يمكن أن يدخل في التفاعلات الكيميائية دون أن ينقس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3000240" y="380880"/>
            <a:ext cx="41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ـــــذرة</a:t>
            </a:r>
            <a:r>
              <a:rPr b="0" lang="en-US" sz="5400" spc="-1" strike="noStrike">
                <a:solidFill>
                  <a:srgbClr val="ffffff"/>
                </a:solidFill>
                <a:latin typeface="Calibri"/>
                <a:ea typeface="Andalus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857240" y="271476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Andalus"/>
                <a:cs typeface="Andalus"/>
              </a:rPr>
              <a:t>الجزيء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214200" y="364320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262626"/>
                </a:solidFill>
                <a:uFillTx/>
                <a:latin typeface="Tahoma"/>
                <a:cs typeface="Tahoma"/>
              </a:rPr>
              <a:t>تعريفه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/ هو الجزء المتناهي في الصغر من المادة والذي يحتفظ بالخواص الطبيعية لتلك المادة</a:t>
            </a:r>
            <a:r>
              <a:rPr b="0" lang="en-US" sz="3200" spc="-1" strike="noStrike">
                <a:solidFill>
                  <a:srgbClr val="262626"/>
                </a:solidFill>
                <a:latin typeface="Tahoma"/>
                <a:ea typeface="Tahoma"/>
              </a:rPr>
              <a:t> </a:t>
            </a:r>
            <a:r>
              <a:rPr b="0" lang="ar-SA" sz="3200" spc="-1" strike="noStrike">
                <a:solidFill>
                  <a:srgbClr val="262626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75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200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533520"/>
            <a:ext cx="9144000" cy="75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تشابهت الذرات أو الجزيئات فإنها تكوّن </a:t>
            </a:r>
            <a:r>
              <a:rPr b="0" lang="ar-SA" sz="3600" spc="-1" strike="noStrike">
                <a:solidFill>
                  <a:srgbClr val="cc0099"/>
                </a:solidFill>
                <a:latin typeface="Calibri"/>
                <a:cs typeface="Times New Roman"/>
              </a:rPr>
              <a:t>العناصر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buClr>
                <a:srgbClr val="0066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6600"/>
                </a:solidFill>
                <a:latin typeface="Calibri"/>
                <a:cs typeface="Times New Roman"/>
              </a:rPr>
              <a:t>إذا اختلفت الذرات فإنها يمكن أن تكوّن </a:t>
            </a:r>
            <a:r>
              <a:rPr b="0" lang="ar-SA" sz="3600" spc="-1" strike="noStrike" u="sng">
                <a:solidFill>
                  <a:srgbClr val="006600"/>
                </a:solidFill>
                <a:uFillTx/>
                <a:latin typeface="Calibri"/>
                <a:cs typeface="Times New Roman"/>
              </a:rPr>
              <a:t>نوعين من المواد</a:t>
            </a:r>
            <a:r>
              <a:rPr b="0" lang="ar-SA" sz="3600" spc="-1" strike="noStrike">
                <a:solidFill>
                  <a:srgbClr val="006600"/>
                </a:solidFill>
                <a:latin typeface="Calibri"/>
                <a:ea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6600"/>
                </a:solidFill>
                <a:latin typeface="Calibri"/>
                <a:ea typeface="Times New Roman"/>
              </a:rPr>
              <a:t>             </a:t>
            </a:r>
            <a:r>
              <a:rPr b="0" lang="ar-SA" sz="3200" spc="-1" strike="noStrike">
                <a:solidFill>
                  <a:srgbClr val="cc0099"/>
                </a:solidFill>
                <a:latin typeface="Calibri"/>
                <a:ea typeface="Times New Roman"/>
              </a:rPr>
              <a:t> المركبات                                     المخالي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cs typeface="Tahoma"/>
              </a:rPr>
              <a:t>ويحدث ذلك عند حدوث تفاعل           ويحدث ذلك إذا امتزجت الذرات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كيميائي بين الذرات.                       أو الجزيئات دون اتحاد كيميائ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66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ight Brace 8"/>
          <p:cNvSpPr/>
          <p:nvPr/>
        </p:nvSpPr>
        <p:spPr>
          <a:xfrm rot="16200000">
            <a:off x="4214520" y="70920"/>
            <a:ext cx="785880" cy="4929120"/>
          </a:xfrm>
          <a:custGeom>
            <a:avLst/>
            <a:gdLst>
              <a:gd name="textAreaLeft" fmla="*/ 0 w 785880"/>
              <a:gd name="textAreaRight" fmla="*/ 283680 w 785880"/>
              <a:gd name="textAreaTop" fmla="*/ 0 h 4929120"/>
              <a:gd name="textAreaBottom" fmla="*/ 492948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655"/>
                </a:lnTo>
                <a:cubicBezTo>
                  <a:pt x="10800" y="10655"/>
                  <a:pt x="16200" y="10655"/>
                  <a:pt x="21600" y="10655"/>
                </a:cubicBezTo>
                <a:cubicBezTo>
                  <a:pt x="16200" y="10655"/>
                  <a:pt x="10800" y="10655"/>
                  <a:pt x="10800" y="10655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Down Arrow 9"/>
          <p:cNvSpPr/>
          <p:nvPr/>
        </p:nvSpPr>
        <p:spPr>
          <a:xfrm>
            <a:off x="6858000" y="342900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Down Arrow 10"/>
          <p:cNvSpPr/>
          <p:nvPr/>
        </p:nvSpPr>
        <p:spPr>
          <a:xfrm>
            <a:off x="2071800" y="3429000"/>
            <a:ext cx="428400" cy="785880"/>
          </a:xfrm>
          <a:prstGeom prst="downArrow">
            <a:avLst>
              <a:gd name="adj1" fmla="val 50000"/>
              <a:gd name="adj2" fmla="val 50031"/>
            </a:avLst>
          </a:prstGeom>
          <a:solidFill>
            <a:srgbClr val="d99694"/>
          </a:solidFill>
          <a:ln w="5508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75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"/>
          <p:cNvSpPr/>
          <p:nvPr/>
        </p:nvSpPr>
        <p:spPr>
          <a:xfrm>
            <a:off x="1981080" y="228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52480" y="228600"/>
            <a:ext cx="6324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571680" y="2205000"/>
            <a:ext cx="7929360" cy="34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عناصر        المركبات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Tahoma"/>
              </a:rPr>
              <a:t>     </a:t>
            </a:r>
            <a:r>
              <a:rPr b="0" lang="ar-SA" sz="4000" spc="-1" strike="noStrike">
                <a:solidFill>
                  <a:srgbClr val="003366"/>
                </a:solidFill>
                <a:latin typeface="Tahoma"/>
                <a:cs typeface="Tahoma"/>
              </a:rPr>
              <a:t>المخاليط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3"/>
          <p:cNvGrpSpPr/>
          <p:nvPr/>
        </p:nvGrpSpPr>
        <p:grpSpPr>
          <a:xfrm>
            <a:off x="1857240" y="2857680"/>
            <a:ext cx="6000120" cy="1142640"/>
            <a:chOff x="1857240" y="2857680"/>
            <a:chExt cx="6000120" cy="1142640"/>
          </a:xfrm>
        </p:grpSpPr>
        <p:sp>
          <p:nvSpPr>
            <p:cNvPr id="92" name="Line 7"/>
            <p:cNvSpPr/>
            <p:nvPr/>
          </p:nvSpPr>
          <p:spPr>
            <a:xfrm>
              <a:off x="4771440" y="285768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8"/>
            <p:cNvSpPr/>
            <p:nvPr/>
          </p:nvSpPr>
          <p:spPr>
            <a:xfrm>
              <a:off x="47714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9"/>
            <p:cNvSpPr/>
            <p:nvPr/>
          </p:nvSpPr>
          <p:spPr>
            <a:xfrm>
              <a:off x="1857240" y="3429000"/>
              <a:ext cx="3085920" cy="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0"/>
            <p:cNvSpPr/>
            <p:nvPr/>
          </p:nvSpPr>
          <p:spPr>
            <a:xfrm>
              <a:off x="785736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1"/>
            <p:cNvSpPr/>
            <p:nvPr/>
          </p:nvSpPr>
          <p:spPr>
            <a:xfrm>
              <a:off x="18572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2"/>
            <p:cNvSpPr/>
            <p:nvPr/>
          </p:nvSpPr>
          <p:spPr>
            <a:xfrm>
              <a:off x="4771440" y="3429000"/>
              <a:ext cx="0" cy="57132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Rectangle 21"/>
          <p:cNvSpPr/>
          <p:nvPr/>
        </p:nvSpPr>
        <p:spPr>
          <a:xfrm>
            <a:off x="2714760" y="1643040"/>
            <a:ext cx="385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Calibri"/>
                <a:cs typeface="Monotype Koufi"/>
              </a:rPr>
              <a:t>أشكال الماد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7" descr="خلفية"/>
          <p:cNvPicPr/>
          <p:nvPr/>
        </p:nvPicPr>
        <p:blipFill>
          <a:blip r:embed="rId1"/>
          <a:srcRect l="17205" t="27570" r="60400" b="43527"/>
          <a:stretch/>
        </p:blipFill>
        <p:spPr>
          <a:xfrm>
            <a:off x="0" y="-21420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1143000" y="160020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onotype Kouf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Rectangle 11"/>
          <p:cNvGrpSpPr/>
          <p:nvPr/>
        </p:nvGrpSpPr>
        <p:grpSpPr>
          <a:xfrm>
            <a:off x="596880" y="523800"/>
            <a:ext cx="7950240" cy="6916320"/>
            <a:chOff x="596880" y="523800"/>
            <a:chExt cx="7950240" cy="6916320"/>
          </a:xfrm>
        </p:grpSpPr>
        <p:pic>
          <p:nvPicPr>
            <p:cNvPr id="102" name="Rectangle 11" descr=""/>
            <p:cNvPicPr/>
            <p:nvPr/>
          </p:nvPicPr>
          <p:blipFill>
            <a:blip r:embed="rId2"/>
            <a:stretch/>
          </p:blipFill>
          <p:spPr>
            <a:xfrm>
              <a:off x="596880" y="523800"/>
              <a:ext cx="7950240" cy="43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14240" y="642960"/>
              <a:ext cx="7715520" cy="67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8800" spc="-1" strike="noStrike">
                  <a:solidFill>
                    <a:srgbClr val="7030a0"/>
                  </a:solidFill>
                  <a:latin typeface="Microsoft Sans Serif"/>
                  <a:cs typeface="Microsoft Sans Serif"/>
                </a:rPr>
                <a:t>أعط تعريفاً مناسباً لكل من العنصر والمركب والمخلوط.</a:t>
              </a:r>
              <a:endParaRPr b="0" lang="en-US" sz="8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20:40:13Z</dcterms:created>
  <dc:creator>Ahlam</dc:creator>
  <dc:description/>
  <dc:language>en-US</dc:language>
  <cp:lastModifiedBy> 1</cp:lastModifiedBy>
  <dcterms:modified xsi:type="dcterms:W3CDTF">2009-12-13T18:37:28Z</dcterms:modified>
  <cp:revision>114</cp:revision>
  <dc:subject/>
  <dc:title>Slide 1</dc:title>
</cp:coreProperties>
</file>