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.png" ContentType="image/pn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108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38858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108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5C175-85AD-481B-818B-BC6CB5F85A61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B8201-D09D-4ECE-BD74-1355B5A990A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أخذ المعلم حصة اضافية لعرض نتائج هذه المهمة لأنه يلزم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ائق لتعرض كل مجموعة المشهد التمثيلي / أي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40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A24CF-658F-41BE-AC1B-DEDAB18151DC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استخدم هذه القبعة عندما احتاج من الطلبة تغيير طريقة تفكيرهم ( أي تبديل قبعتهم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D91A8-43B5-464B-B04D-F3FD2E7A07E4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معايير التقيي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85D401-30D9-4BE4-BF2D-AB2CC8B7F5C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دقيقة لعرض الواجب البيتي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D2FB-3515-4F79-8543-6E456562C058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عرض المعلم النتاجات والتقييم قبل بدء تنفيذ المها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652E3-8481-4393-93DC-71F498C814CF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دقيقة لعرض النتاجات على الطلب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11EFA-32FA-4361-ABD6-2402F872E5F5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200" spc="-1" strike="noStrike">
                <a:solidFill>
                  <a:srgbClr val="000000"/>
                </a:solidFill>
                <a:latin typeface="Times New Roman"/>
              </a:rPr>
              <a:t>طرح الاحجية </a:t>
            </a:r>
            <a:r>
              <a:rPr b="1" lang="ar-JO" sz="1200" spc="-1" strike="noStrike">
                <a:solidFill>
                  <a:srgbClr val="000000"/>
                </a:solidFill>
                <a:latin typeface="Times New Roman"/>
              </a:rPr>
              <a:t>لجذب انتباه الطلبة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 ( دقيقة واحدة 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03F7E-22B8-4518-A510-EE9C6532E9DD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عصف ذهني بعرض فلاش تعليمي يبين كيف يزداد عدد الخلية البكتيرية الى عدد كبير في دقائق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7"/>
          <p:cNvSpPr/>
          <p:nvPr/>
        </p:nvSpPr>
        <p:spPr>
          <a:xfrm>
            <a:off x="144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CC35C-2F37-40C2-B108-2342EEDB50C9}" type="slidenum"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 rtl="1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200" spc="-1" strike="noStrike">
                <a:solidFill>
                  <a:srgbClr val="000000"/>
                </a:solidFill>
                <a:latin typeface="Times New Roman"/>
              </a:rPr>
              <a:t>ينقر الطالب على القبعة المرغوب اردائها  من قبل المجموعة لانجاز المهمة الخاصة بهذه القبع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7E9C0-911B-417F-A14D-84143E0E5C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1159-1363-4BE5-A1CA-FE076AC3A1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9DA7E-4DEA-443A-8ABB-472D1002AA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8443-DF32-43C2-80E8-912384CA65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8D7B-9B97-4DE0-847E-1C786395C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470AB-E012-4E1D-A0F9-11FFDFA03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F226-FACE-4EF9-B5A8-62D7B39EA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AF8A-AD3F-4F21-A27B-688E62EC0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C8F2C-F95F-4502-B9E9-D6C515003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AA66D-0C3C-439C-B240-66622AF3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B55C-1406-4238-B9AA-D4C30D329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5323E-65A0-4733-80F4-49737A91D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D3D182-2447-4223-9001-978347AC48AC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uae7.com/vb/t47668.htm" TargetMode="External"/><Relationship Id="rId2" Type="http://schemas.openxmlformats.org/officeDocument/2006/relationships/image" Target="../media/image14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ar.wikipedia.org/wiki/&#1587;&#1606;" TargetMode="External"/><Relationship Id="rId2" Type="http://schemas.openxmlformats.org/officeDocument/2006/relationships/image" Target="../media/image13.jpeg"/><Relationship Id="rId3" Type="http://schemas.openxmlformats.org/officeDocument/2006/relationships/slide" Target="slide7.xml"/><Relationship Id="rId4" Type="http://schemas.openxmlformats.org/officeDocument/2006/relationships/slide" Target="slide7.xm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" Target="slide14.xml"/><Relationship Id="rId4" Type="http://schemas.openxmlformats.org/officeDocument/2006/relationships/image" Target="../media/image4.jpeg"/><Relationship Id="rId5" Type="http://schemas.openxmlformats.org/officeDocument/2006/relationships/image" Target="../media/image4.jpeg"/><Relationship Id="rId6" Type="http://schemas.openxmlformats.org/officeDocument/2006/relationships/image" Target="../media/image4.jpeg"/><Relationship Id="rId7" Type="http://schemas.openxmlformats.org/officeDocument/2006/relationships/image" Target="../media/image4.jpeg"/><Relationship Id="rId8" Type="http://schemas.openxmlformats.org/officeDocument/2006/relationships/image" Target="../media/image4.jpeg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4.xml"/><Relationship Id="rId12" Type="http://schemas.openxmlformats.org/officeDocument/2006/relationships/slide" Target="slide4.xml"/><Relationship Id="rId13" Type="http://schemas.openxmlformats.org/officeDocument/2006/relationships/slide" Target="slide6.xml"/><Relationship Id="rId14" Type="http://schemas.openxmlformats.org/officeDocument/2006/relationships/slide" Target="slide14.xml"/><Relationship Id="rId15" Type="http://schemas.openxmlformats.org/officeDocument/2006/relationships/slide" Target="slide3.xml"/><Relationship Id="rId16" Type="http://schemas.openxmlformats.org/officeDocument/2006/relationships/slide" Target="slide15.xml"/><Relationship Id="rId17" Type="http://schemas.openxmlformats.org/officeDocument/2006/relationships/image" Target="../media/image2.jpeg"/><Relationship Id="rId18" Type="http://schemas.openxmlformats.org/officeDocument/2006/relationships/slideLayout" Target="../slideLayouts/slideLayout1.xml"/><Relationship Id="rId1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13.xm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image" Target="../media/image10.jpeg"/><Relationship Id="rId5" Type="http://schemas.openxmlformats.org/officeDocument/2006/relationships/slide" Target="slide12.xml"/><Relationship Id="rId6" Type="http://schemas.openxmlformats.org/officeDocument/2006/relationships/image" Target="../media/image11.jpeg"/><Relationship Id="rId7" Type="http://schemas.openxmlformats.org/officeDocument/2006/relationships/slide" Target="slide8.xml"/><Relationship Id="rId8" Type="http://schemas.openxmlformats.org/officeDocument/2006/relationships/image" Target="../media/image12.jpeg"/><Relationship Id="rId9" Type="http://schemas.openxmlformats.org/officeDocument/2006/relationships/slide" Target="slide11.xml"/><Relationship Id="rId10" Type="http://schemas.openxmlformats.org/officeDocument/2006/relationships/image" Target="../media/image13.jpeg"/><Relationship Id="rId11" Type="http://schemas.openxmlformats.org/officeDocument/2006/relationships/slide" Target="slide10.xml"/><Relationship Id="rId12" Type="http://schemas.openxmlformats.org/officeDocument/2006/relationships/image" Target="../media/image14.jpeg"/><Relationship Id="rId13" Type="http://schemas.openxmlformats.org/officeDocument/2006/relationships/slide" Target="slide2.xml"/><Relationship Id="rId14" Type="http://schemas.openxmlformats.org/officeDocument/2006/relationships/slideLayout" Target="../slideLayouts/slideLayout1.xml"/><Relationship Id="rId1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slide" Target="slide7.xml"/><Relationship Id="rId3" Type="http://schemas.openxmlformats.org/officeDocument/2006/relationships/image" Target="../media/image12.jpeg"/><Relationship Id="rId4" Type="http://schemas.openxmlformats.org/officeDocument/2006/relationships/hyperlink" Target="http://ar.wikipedia.org/wiki/&#1587;&#1606;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images.google.jo/imgres?imgurl=http://javey.net/images/hats/black.jpg&amp;imgrefurl=http://alweehdat.com/vb/showthread.php%3Ft%3D57298&amp;usg=__qd1otld-seoVDGLSxvJ5JC7JVWs=&amp;h=300&amp;w=300&amp;sz=6&amp;hl=ar&amp;start=2&amp;tbnid=PQAWR9VnC8L04M:&amp;tbnh=116&amp;tbnw=116&amp;prev=/images%3Fq%3D%25D8%25A7%25D9%2584%25D9%2582%25D8%25A8%25D8%25B9%25D8%25A9%2B%25D8%25A7%25D9%2584%25D8%25B3%25D9%2588%25D8%25AF%25D8%25A7%25D8%25A1%26gbv%3D2%26hl%3Dar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png"/><Relationship Id="rId4" Type="http://schemas.openxmlformats.org/officeDocument/2006/relationships/slide" Target="slide7.xml"/><Relationship Id="rId5" Type="http://schemas.openxmlformats.org/officeDocument/2006/relationships/slide" Target="slide7.xm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476360" y="475920"/>
            <a:ext cx="61200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3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www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kalimat1</a:t>
            </a:r>
            <a:r>
              <a:rPr b="0" lang="ar-SA" sz="4400" spc="-1" strike="noStrike">
                <a:solidFill>
                  <a:srgbClr val="ea2d00"/>
                </a:solidFill>
                <a:latin typeface="Times New Roman"/>
              </a:rPr>
              <a:t>.</a:t>
            </a:r>
            <a:r>
              <a:rPr b="0" lang="en-US" sz="4400" spc="-1" strike="noStrike">
                <a:solidFill>
                  <a:srgbClr val="ea2d00"/>
                </a:solidFill>
                <a:latin typeface="Times New Roman"/>
              </a:rPr>
              <a:t>com</a:t>
            </a:r>
            <a:br>
              <a:rPr sz="4400"/>
            </a:br>
            <a:r>
              <a:rPr b="0" lang="ar-JO" sz="4400" spc="-1" strike="noStrike">
                <a:solidFill>
                  <a:srgbClr val="ea2d00"/>
                </a:solidFill>
                <a:latin typeface="Times New Roman"/>
              </a:rPr>
              <a:t>موقع كلمات وعبار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صورة10"/>
          <p:cNvPicPr/>
          <p:nvPr/>
        </p:nvPicPr>
        <p:blipFill>
          <a:blip r:embed="rId1"/>
          <a:srcRect l="17001" t="26190" r="0" b="7911"/>
          <a:stretch/>
        </p:blipFill>
        <p:spPr>
          <a:xfrm>
            <a:off x="2771640" y="4653000"/>
            <a:ext cx="3052800" cy="18208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7" descr="C:\Users\adel\Desktop\22.jpg"/>
          <p:cNvPicPr/>
          <p:nvPr/>
        </p:nvPicPr>
        <p:blipFill>
          <a:blip r:embed="rId2"/>
          <a:stretch/>
        </p:blipFill>
        <p:spPr>
          <a:xfrm>
            <a:off x="6643800" y="4786200"/>
            <a:ext cx="1904760" cy="1833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427280" y="475920"/>
            <a:ext cx="4392360" cy="114300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صفراء</a:t>
            </a: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68360" y="1915920"/>
            <a:ext cx="8424720" cy="4105080"/>
          </a:xfrm>
          <a:prstGeom prst="rect">
            <a:avLst/>
          </a:prstGeom>
          <a:solidFill>
            <a:srgbClr val="e7e200"/>
          </a:solidFill>
          <a:ln w="0">
            <a:noFill/>
          </a:ln>
        </p:spPr>
        <p:txBody>
          <a:bodyPr anchor="t">
            <a:normAutofit fontScale="96000"/>
          </a:bodyPr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زيزي الطالب انت طالب في النشاط العلمي ما رأيك ان تبحر في الانترنت لتعد تقرير عن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 لتقرأءه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عبر الاذاعة المدرسية خلال الطابور الصباحي غداً 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ستخدم برمجية ال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ord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لإعداد التقرير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ابحث في اهمية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للإنسان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؟</a:t>
            </a: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-585000" algn="r" rtl="1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ما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أهمية</a:t>
            </a:r>
            <a:r>
              <a:rPr b="1" lang="ar-AE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الأسنان من الناحية الجمالية للإنس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JO" sz="2400" spc="-1" strike="noStrike">
                <a:solidFill>
                  <a:srgbClr val="000000"/>
                </a:solidFill>
                <a:latin typeface="Times New Roman"/>
              </a:rPr>
              <a:t>.    اقترحي طرق للمحافظة على الأسنا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00"/>
                </a:solidFill>
                <a:latin typeface="Times New Roman"/>
              </a:rPr>
              <a:t>يمكنك الاستعانة بالموافع الآتية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www.uae7.com/vb/t47668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85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6095880" y="6019920"/>
            <a:ext cx="1600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1042920" y="4221000"/>
            <a:ext cx="7129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10" descr="39193766700_lg"/>
          <p:cNvPicPr/>
          <p:nvPr/>
        </p:nvPicPr>
        <p:blipFill>
          <a:blip r:embed="rId2"/>
          <a:srcRect l="0" t="12905" r="0" b="12117"/>
          <a:stretch/>
        </p:blipFill>
        <p:spPr>
          <a:xfrm>
            <a:off x="1547640" y="260280"/>
            <a:ext cx="1638360" cy="1513080"/>
          </a:xfrm>
          <a:prstGeom prst="rect">
            <a:avLst/>
          </a:prstGeom>
          <a:ln w="0">
            <a:noFill/>
          </a:ln>
        </p:spPr>
      </p:pic>
      <p:sp>
        <p:nvSpPr>
          <p:cNvPr id="125" name="Rectangle 11"/>
          <p:cNvSpPr/>
          <p:nvPr/>
        </p:nvSpPr>
        <p:spPr>
          <a:xfrm>
            <a:off x="539640" y="6237360"/>
            <a:ext cx="1524240" cy="439560"/>
          </a:xfrm>
          <a:prstGeom prst="rect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12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7e2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779640" y="404280"/>
            <a:ext cx="4606920" cy="114300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خضر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267192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txBody>
          <a:bodyPr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انت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سن من القواطع التقيت بمجموعة من الأسنان داخل مملكة الأسنان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 دخلت معها في حوار حول مكان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تواجد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كل منها و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ووظيفتها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قم انت ومجموعتك بإعداد مشهد تمثيلي تُظهر  فيه اهمية ودور كل منهما في 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الفم </a:t>
            </a: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وقدم هذه التمثيلية امام زملائك.</a:t>
            </a:r>
            <a:r>
              <a:rPr b="0" lang="ar-JO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9840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ffffff"/>
                </a:solidFill>
                <a:latin typeface="Arial"/>
              </a:rPr>
              <a:t>يمكنك الاستعانة بالمواقع الآتية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 Box 6"/>
          <p:cNvSpPr/>
          <p:nvPr/>
        </p:nvSpPr>
        <p:spPr>
          <a:xfrm>
            <a:off x="684360" y="4797360"/>
            <a:ext cx="7775280" cy="801360"/>
          </a:xfrm>
          <a:prstGeom prst="rect">
            <a:avLst/>
          </a:prstGeom>
          <a:solidFill>
            <a:srgbClr val="39ad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http://ar.wikipedia.org/wiki/%D8%B3%D9%86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7" descr="CAQXSDEN"/>
          <p:cNvPicPr/>
          <p:nvPr/>
        </p:nvPicPr>
        <p:blipFill>
          <a:blip r:embed="rId2"/>
          <a:stretch/>
        </p:blipFill>
        <p:spPr>
          <a:xfrm>
            <a:off x="1547640" y="260280"/>
            <a:ext cx="1470240" cy="157968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8"/>
          <p:cNvSpPr/>
          <p:nvPr/>
        </p:nvSpPr>
        <p:spPr>
          <a:xfrm>
            <a:off x="684360" y="6165720"/>
            <a:ext cx="1523880" cy="439920"/>
          </a:xfrm>
          <a:prstGeom prst="rect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3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4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39ad7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7640" y="549000"/>
            <a:ext cx="4032000" cy="114300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حمر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6560" y="1915920"/>
            <a:ext cx="7705800" cy="3941640"/>
          </a:xfrm>
          <a:prstGeom prst="rect">
            <a:avLst/>
          </a:prstGeom>
          <a:solidFill>
            <a:srgbClr val="ea2d00"/>
          </a:solidFill>
          <a:ln w="0">
            <a:noFill/>
          </a:ln>
        </p:spPr>
        <p:txBody>
          <a:bodyPr anchor="t">
            <a:normAutofit fontScale="81000"/>
          </a:bodyPr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كل شئ 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إنسان 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له دور، فما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هو شعورك حول</a:t>
            </a:r>
            <a:r>
              <a:rPr b="1" lang="ar-AE" sz="2800" spc="-1" strike="noStrike">
                <a:solidFill>
                  <a:srgbClr val="ffffff"/>
                </a:solidFill>
                <a:latin typeface="Times New Roman"/>
              </a:rPr>
              <a:t> دور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الأسنان 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في </a:t>
            </a: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حياة الإنسان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صف مشاعرك عندما تنظف أسنان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ffffff"/>
                </a:solidFill>
                <a:latin typeface="Times New Roman"/>
              </a:rPr>
              <a:t>تخيل نفسك رجل مسن وقد فقدت أسنانك ما هو شعور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77560" indent="0" algn="r" rtl="1">
              <a:lnSpc>
                <a:spcPct val="15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يمكنك ان تعبر عن شعورك بما يعادل سطرين على برمجية ال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Word</a:t>
            </a:r>
            <a:r>
              <a:rPr b="1" lang="ar-SA" sz="2800" spc="-1" strike="noStrike">
                <a:solidFill>
                  <a:srgbClr val="ffffff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6" descr="b_madhistory_cap_red_08"/>
          <p:cNvPicPr/>
          <p:nvPr/>
        </p:nvPicPr>
        <p:blipFill>
          <a:blip r:embed="rId1"/>
          <a:stretch/>
        </p:blipFill>
        <p:spPr>
          <a:xfrm>
            <a:off x="1619280" y="260280"/>
            <a:ext cx="1517760" cy="151776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8"/>
          <p:cNvSpPr/>
          <p:nvPr/>
        </p:nvSpPr>
        <p:spPr>
          <a:xfrm>
            <a:off x="755640" y="6021360"/>
            <a:ext cx="1523880" cy="439920"/>
          </a:xfrm>
          <a:prstGeom prst="rect">
            <a:avLst/>
          </a:prstGeom>
          <a:solidFill>
            <a:srgbClr val="ff6d4b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solidFill>
            <a:srgbClr val="ea2d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ar-SA" sz="1600" spc="-1" strike="noStrike">
                <a:solidFill>
                  <a:srgbClr val="ffffff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835280" y="549000"/>
            <a:ext cx="5184720" cy="114300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زرقاء</a:t>
            </a:r>
            <a:r>
              <a:rPr b="0" lang="ar-JO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7" descr="58"/>
          <p:cNvPicPr/>
          <p:nvPr/>
        </p:nvPicPr>
        <p:blipFill>
          <a:blip r:embed="rId1"/>
          <a:stretch/>
        </p:blipFill>
        <p:spPr>
          <a:xfrm>
            <a:off x="3492360" y="2060640"/>
            <a:ext cx="2089440" cy="2089080"/>
          </a:xfrm>
          <a:prstGeom prst="rect">
            <a:avLst/>
          </a:prstGeom>
          <a:ln w="0">
            <a:noFill/>
          </a:ln>
        </p:spPr>
      </p:pic>
      <p:sp>
        <p:nvSpPr>
          <p:cNvPr id="140" name="Text Box 8"/>
          <p:cNvSpPr/>
          <p:nvPr/>
        </p:nvSpPr>
        <p:spPr>
          <a:xfrm>
            <a:off x="1116000" y="4437000"/>
            <a:ext cx="7056360" cy="1556280"/>
          </a:xfrm>
          <a:prstGeom prst="rect">
            <a:avLst/>
          </a:prstGeom>
          <a:solidFill>
            <a:srgbClr val="6d8eb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imes New Roman"/>
              </a:rPr>
              <a:t>يبدو اننا سننتقل الى القبعة ............... الان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3492360" y="6021360"/>
            <a:ext cx="1524240" cy="439920"/>
          </a:xfrm>
          <a:prstGeom prst="rect">
            <a:avLst/>
          </a:prstGeom>
          <a:solidFill>
            <a:srgbClr val="6d8eb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000000"/>
                </a:solidFill>
                <a:latin typeface="Tahoma"/>
                <a:cs typeface="Tahoma"/>
              </a:rPr>
              <a:t>رجوع</a:t>
            </a:r>
            <a:r>
              <a:rPr b="1" lang="ar-JO" sz="20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2" name=""/>
          <p:cNvGraphicFramePr/>
          <p:nvPr/>
        </p:nvGraphicFramePr>
        <p:xfrm>
          <a:off x="614520" y="1125360"/>
          <a:ext cx="7557840" cy="4739040"/>
        </p:xfrm>
        <a:graphic>
          <a:graphicData uri="http://schemas.openxmlformats.org/drawingml/2006/table">
            <a:tbl>
              <a:tblPr/>
              <a:tblGrid>
                <a:gridCol w="644400"/>
                <a:gridCol w="649080"/>
                <a:gridCol w="719280"/>
                <a:gridCol w="649440"/>
                <a:gridCol w="4327560"/>
                <a:gridCol w="568080"/>
              </a:tblGrid>
              <a:tr h="679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قبول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يد </a:t>
                      </a:r>
                      <a:r>
                        <a:rPr b="1" lang="ar-SA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جداً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ممتاز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20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أداء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cs typeface="Tahoma"/>
                        </a:rPr>
                        <a:t>الرقم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3f3f3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عرف المصطلحات والمفاهيم الوردة في الدرس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حدد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أجزاء الس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2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قترح حلول للمحافظة على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3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قصي أهمية ا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لأسنان</a:t>
                      </a: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 للإنس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4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بحث في بعض الامراض التي </a:t>
                      </a: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صيب الأسنان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5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ستخدم لغة علمية صحيحة واضحة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6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تواصل مع الآخرين باحترام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7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يشارك مجموعة الصف الحوار والنقاش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8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تنفيذ الطلبة للأنشطة التكنولوجية (استخدام الحاسوب) والتي يساهموا فيها بشكل فردي أو ضمن مجموعات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9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000000"/>
                          </a:solidFill>
                          <a:latin typeface="Times New Roman"/>
                          <a:cs typeface="Times New Roman"/>
                        </a:rPr>
                        <a:t>انجاز المهمة المطلوبة في الوقت المحدد وبدقة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10</a:t>
                      </a:r>
                      <a:r>
                        <a:rPr b="1" lang="ar-JO" sz="1200" spc="-1" strike="noStrike">
                          <a:solidFill>
                            <a:srgbClr val="000000"/>
                          </a:solidFill>
                          <a:latin typeface="Tahoma"/>
                          <a:ea typeface="Tahoma"/>
                        </a:rPr>
                        <a:t>-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3" name="Text Box 94"/>
          <p:cNvSpPr/>
          <p:nvPr/>
        </p:nvSpPr>
        <p:spPr>
          <a:xfrm>
            <a:off x="2843280" y="476280"/>
            <a:ext cx="3384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Text Box 95"/>
          <p:cNvSpPr/>
          <p:nvPr/>
        </p:nvSpPr>
        <p:spPr>
          <a:xfrm>
            <a:off x="7524720" y="260280"/>
            <a:ext cx="1295280" cy="91692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سلم تقدير عددي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Text Box 226"/>
          <p:cNvSpPr/>
          <p:nvPr/>
        </p:nvSpPr>
        <p:spPr>
          <a:xfrm>
            <a:off x="250920" y="189000"/>
            <a:ext cx="7021440" cy="103140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اعزائي الطلبه قبل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بدء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بتنفيذ المهام لنتفق معاً على 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لمعايير التالية 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 والتي سوف اقوم على أساسها بتقييم انجازكم للمه</a:t>
            </a:r>
            <a:r>
              <a:rPr b="1" lang="ar-JO" sz="1400" spc="-1" strike="noStrike">
                <a:solidFill>
                  <a:srgbClr val="000000"/>
                </a:solidFill>
                <a:latin typeface="Times New Roman"/>
              </a:rPr>
              <a:t>ا</a:t>
            </a:r>
            <a:r>
              <a:rPr b="1" lang="ar-SA" sz="1400" spc="-1" strike="noStrike">
                <a:solidFill>
                  <a:srgbClr val="000000"/>
                </a:solidFill>
                <a:latin typeface="Times New Roman"/>
              </a:rPr>
              <a:t>م الموكلة للمجموعة  ، وذلك حرصاً مني على أن يأخذ كل واحد منكم فرصته بتجميع  افضل علامة ، مع تمنياتي للجميع بإحراز أعلى العلامات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27"/>
          <p:cNvSpPr/>
          <p:nvPr/>
        </p:nvSpPr>
        <p:spPr>
          <a:xfrm>
            <a:off x="1692360" y="6165720"/>
            <a:ext cx="7175520" cy="580680"/>
          </a:xfrm>
          <a:prstGeom prst="rect">
            <a:avLst/>
          </a:prstGeom>
          <a:solidFill>
            <a:srgbClr val="f3d9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التقدير  :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متاز           ، 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جدا            ،( 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جيد               ،( 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Arial"/>
              </a:rPr>
              <a:t> ) مقبول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266"/>
          <p:cNvSpPr/>
          <p:nvPr/>
        </p:nvSpPr>
        <p:spPr>
          <a:xfrm>
            <a:off x="250920" y="6093000"/>
            <a:ext cx="1224000" cy="475920"/>
          </a:xfrm>
          <a:custGeom>
            <a:avLst/>
            <a:gdLst>
              <a:gd name="textAreaLeft" fmla="*/ 30600 w 1224000"/>
              <a:gd name="textAreaRight" fmla="*/ 1193400 w 1224000"/>
              <a:gd name="textAreaTop" fmla="*/ 30600 h 475920"/>
              <a:gd name="textAreaBottom" fmla="*/ 445320 h 475920"/>
            </a:gdLst>
            <a:ahLst/>
            <a:rect l="textAreaLeft" t="textAreaTop" r="textAreaRight" b="textAreaBottom"/>
            <a:pathLst>
              <a:path w="55527" h="21600">
                <a:moveTo>
                  <a:pt x="0" y="0"/>
                </a:moveTo>
                <a:lnTo>
                  <a:pt x="55527" y="0"/>
                </a:lnTo>
                <a:lnTo>
                  <a:pt x="55527" y="21600"/>
                </a:lnTo>
                <a:lnTo>
                  <a:pt x="0" y="21600"/>
                </a:lnTo>
                <a:close/>
              </a:path>
              <a:path fill="lightenLess" w="55527" h="21600">
                <a:moveTo>
                  <a:pt x="0" y="0"/>
                </a:moveTo>
                <a:lnTo>
                  <a:pt x="55527" y="0"/>
                </a:lnTo>
                <a:lnTo>
                  <a:pt x="54127" y="1400"/>
                </a:lnTo>
                <a:lnTo>
                  <a:pt x="1400" y="1400"/>
                </a:lnTo>
                <a:close/>
              </a:path>
              <a:path fill="darken" w="55527" h="21600">
                <a:moveTo>
                  <a:pt x="55527" y="0"/>
                </a:moveTo>
                <a:lnTo>
                  <a:pt x="55527" y="21600"/>
                </a:lnTo>
                <a:lnTo>
                  <a:pt x="54127" y="20200"/>
                </a:lnTo>
                <a:lnTo>
                  <a:pt x="54127" y="1400"/>
                </a:lnTo>
                <a:close/>
              </a:path>
              <a:path fill="darkenLess" w="55527" h="21600">
                <a:moveTo>
                  <a:pt x="5552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27" y="20200"/>
                </a:lnTo>
                <a:close/>
              </a:path>
              <a:path fill="lighten" w="5552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55527" h="21600">
                <a:moveTo>
                  <a:pt x="27763" y="3837"/>
                </a:moveTo>
                <a:lnTo>
                  <a:pt x="30340" y="6448"/>
                </a:ln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lnTo>
                  <a:pt x="34726" y="10800"/>
                </a:lnTo>
                <a:lnTo>
                  <a:pt x="33073" y="10800"/>
                </a:lnTo>
                <a:lnTo>
                  <a:pt x="33073" y="17989"/>
                </a:lnTo>
                <a:lnTo>
                  <a:pt x="22454" y="17989"/>
                </a:lnTo>
                <a:lnTo>
                  <a:pt x="22454" y="10800"/>
                </a:lnTo>
                <a:lnTo>
                  <a:pt x="20800" y="10800"/>
                </a:lnTo>
                <a:close/>
              </a:path>
              <a:path fill="darkenLess" w="55527" h="21600">
                <a:moveTo>
                  <a:pt x="30340" y="6448"/>
                </a:moveTo>
                <a:lnTo>
                  <a:pt x="30340" y="4707"/>
                </a:lnTo>
                <a:lnTo>
                  <a:pt x="32115" y="4707"/>
                </a:lnTo>
                <a:lnTo>
                  <a:pt x="32115" y="8224"/>
                </a:lnTo>
                <a:close/>
              </a:path>
              <a:path fill="darkenLess" w="55527" h="21600">
                <a:moveTo>
                  <a:pt x="26841" y="14299"/>
                </a:moveTo>
                <a:lnTo>
                  <a:pt x="28686" y="14299"/>
                </a:lnTo>
                <a:lnTo>
                  <a:pt x="28686" y="17989"/>
                </a:lnTo>
                <a:lnTo>
                  <a:pt x="33073" y="17989"/>
                </a:lnTo>
                <a:lnTo>
                  <a:pt x="33073" y="10800"/>
                </a:lnTo>
                <a:lnTo>
                  <a:pt x="22454" y="10800"/>
                </a:lnTo>
                <a:lnTo>
                  <a:pt x="22454" y="17989"/>
                </a:lnTo>
                <a:lnTo>
                  <a:pt x="2684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394920" y="620640"/>
            <a:ext cx="8062920" cy="51847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 rtl="1">
              <a:lnSpc>
                <a:spcPct val="14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لواجب البيتي </a:t>
            </a:r>
            <a:br>
              <a:rPr sz="2800"/>
            </a:b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تكليف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الطلبه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بحث على الانترنت عن معلومات عن أكثر الأمراض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أسنان لدى الأطفال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انتشاراً في الأردن وأسبابها وطرائق الوقاية منها وعلاجها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وذلك بزيارة مسؤولين في احد المراكز الصحية القريبة وسؤالهم عن الموضوع ، وابعث نتائج البحث في عرض تقديمي باستخدام ال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owerPoint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الى البريد الالكتروني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areenalsamara@yahoo.com</a:t>
            </a:r>
            <a:br>
              <a:rPr sz="2800"/>
            </a:b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ليتم مناقشتها مع زملائك </a:t>
            </a:r>
            <a:r>
              <a:rPr b="1" lang="ar-EG" sz="2800" spc="-1" strike="noStrike">
                <a:solidFill>
                  <a:srgbClr val="000000"/>
                </a:solidFill>
                <a:latin typeface="Times New Roman"/>
              </a:rPr>
              <a:t>في الحصة القادمة</a:t>
            </a:r>
            <a:r>
              <a:rPr b="0" lang="ar-EG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1476360" y="3357720"/>
            <a:ext cx="15829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Picture 21" descr="six%20hats%20button%20blur"/>
          <p:cNvPicPr/>
          <p:nvPr/>
        </p:nvPicPr>
        <p:blipFill>
          <a:blip r:embed="rId1"/>
          <a:stretch/>
        </p:blipFill>
        <p:spPr>
          <a:xfrm>
            <a:off x="6084720" y="907920"/>
            <a:ext cx="2160720" cy="2051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24"/>
          <p:cNvSpPr/>
          <p:nvPr/>
        </p:nvSpPr>
        <p:spPr>
          <a:xfrm>
            <a:off x="611280" y="765000"/>
            <a:ext cx="288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25"/>
          <p:cNvSpPr/>
          <p:nvPr/>
        </p:nvSpPr>
        <p:spPr>
          <a:xfrm>
            <a:off x="611280" y="1052640"/>
            <a:ext cx="324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Picture 26" descr="104"/>
          <p:cNvPicPr/>
          <p:nvPr/>
        </p:nvPicPr>
        <p:blipFill>
          <a:blip r:embed="rId2"/>
          <a:stretch/>
        </p:blipFill>
        <p:spPr>
          <a:xfrm>
            <a:off x="1066680" y="48261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56" name="Text Box 34"/>
          <p:cNvSpPr/>
          <p:nvPr/>
        </p:nvSpPr>
        <p:spPr>
          <a:xfrm>
            <a:off x="1332000" y="58770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3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Picture 36" descr="104"/>
          <p:cNvPicPr/>
          <p:nvPr/>
        </p:nvPicPr>
        <p:blipFill>
          <a:blip r:embed="rId4"/>
          <a:stretch/>
        </p:blipFill>
        <p:spPr>
          <a:xfrm>
            <a:off x="1042920" y="573408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7" descr="104"/>
          <p:cNvPicPr/>
          <p:nvPr/>
        </p:nvPicPr>
        <p:blipFill>
          <a:blip r:embed="rId5"/>
          <a:stretch/>
        </p:blipFill>
        <p:spPr>
          <a:xfrm>
            <a:off x="1066680" y="375912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8" descr="104"/>
          <p:cNvPicPr/>
          <p:nvPr/>
        </p:nvPicPr>
        <p:blipFill>
          <a:blip r:embed="rId6"/>
          <a:stretch/>
        </p:blipFill>
        <p:spPr>
          <a:xfrm>
            <a:off x="1066680" y="1549440"/>
            <a:ext cx="2409840" cy="7621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39" descr="104"/>
          <p:cNvPicPr/>
          <p:nvPr/>
        </p:nvPicPr>
        <p:blipFill>
          <a:blip r:embed="rId7"/>
          <a:stretch/>
        </p:blipFill>
        <p:spPr>
          <a:xfrm>
            <a:off x="1066680" y="2738520"/>
            <a:ext cx="2409840" cy="76176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40" descr="104"/>
          <p:cNvPicPr/>
          <p:nvPr/>
        </p:nvPicPr>
        <p:blipFill>
          <a:blip r:embed="rId8"/>
          <a:stretch/>
        </p:blipFill>
        <p:spPr>
          <a:xfrm>
            <a:off x="1042920" y="549360"/>
            <a:ext cx="2409840" cy="761760"/>
          </a:xfrm>
          <a:prstGeom prst="rect">
            <a:avLst/>
          </a:prstGeom>
          <a:ln w="0">
            <a:noFill/>
          </a:ln>
        </p:spPr>
      </p:pic>
      <p:sp>
        <p:nvSpPr>
          <p:cNvPr id="62" name="Text Box 41"/>
          <p:cNvSpPr/>
          <p:nvPr/>
        </p:nvSpPr>
        <p:spPr>
          <a:xfrm>
            <a:off x="1403280" y="386064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9" action="ppaction://hlinksldjump"/>
              </a:rPr>
              <a:t>المه</a:t>
            </a:r>
            <a:r>
              <a:rPr b="0" lang="ar-SA" sz="2800" spc="-1" strike="noStrike" u="sng">
                <a:solidFill>
                  <a:srgbClr val="ccccff"/>
                </a:solidFill>
                <a:uFillTx/>
                <a:latin typeface="Arial"/>
                <a:hlinkClick r:id="rId10" action="ppaction://hlinksldjump"/>
              </a:rPr>
              <a:t>ـــ</a:t>
            </a:r>
            <a:r>
              <a:rPr b="0" lang="ar-EG" sz="2800" spc="-1" strike="noStrike" u="sng">
                <a:solidFill>
                  <a:srgbClr val="ccccff"/>
                </a:solidFill>
                <a:uFillTx/>
                <a:latin typeface="Arial"/>
                <a:hlinkClick r:id="rId11" action="ppaction://hlinksldjump"/>
              </a:rPr>
              <a:t>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Text Box 42"/>
          <p:cNvSpPr/>
          <p:nvPr/>
        </p:nvSpPr>
        <p:spPr>
          <a:xfrm>
            <a:off x="1619280" y="1701720"/>
            <a:ext cx="13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2" action="ppaction://hlinksldjump"/>
              </a:rPr>
              <a:t>المقدم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43"/>
          <p:cNvSpPr/>
          <p:nvPr/>
        </p:nvSpPr>
        <p:spPr>
          <a:xfrm>
            <a:off x="1619280" y="285264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3" action="ppaction://hlinksldjump"/>
              </a:rPr>
              <a:t>التمهيــ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44"/>
          <p:cNvSpPr/>
          <p:nvPr/>
        </p:nvSpPr>
        <p:spPr>
          <a:xfrm>
            <a:off x="1403280" y="48690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Arial"/>
                <a:hlinkClick r:id="rId14" action="ppaction://hlinksldjump"/>
              </a:rPr>
              <a:t>التقييـــم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45"/>
          <p:cNvSpPr/>
          <p:nvPr/>
        </p:nvSpPr>
        <p:spPr>
          <a:xfrm>
            <a:off x="1403280" y="69372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5" action="ppaction://hlinksldjump"/>
              </a:rPr>
              <a:t>النتاجــــا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Text Box 46"/>
          <p:cNvSpPr/>
          <p:nvPr/>
        </p:nvSpPr>
        <p:spPr>
          <a:xfrm>
            <a:off x="1403280" y="5805360"/>
            <a:ext cx="165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ccccff"/>
                </a:solidFill>
                <a:uFillTx/>
                <a:latin typeface="Times New Roman"/>
                <a:hlinkClick r:id="rId16" action="ppaction://hlinksldjump"/>
              </a:rPr>
              <a:t>الواجب البيتي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48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5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52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53" descr="C:\Users\adel\Desktop\22.jpg"/>
          <p:cNvPicPr/>
          <p:nvPr/>
        </p:nvPicPr>
        <p:blipFill>
          <a:blip r:embed="rId17"/>
          <a:stretch/>
        </p:blipFill>
        <p:spPr>
          <a:xfrm>
            <a:off x="6000840" y="3500280"/>
            <a:ext cx="1904760" cy="21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771640" y="475920"/>
            <a:ext cx="3454560" cy="94788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نتاجات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13880" y="1557360"/>
            <a:ext cx="7742520" cy="4586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3000"/>
          </a:bodyPr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عزيزي الطالب بعد الانتهاء من هذا الدرس يتوقع منك ان تكون قادراً على أن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تعرف على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المفاهيم والمصطلحات التالية :التسوس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 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أسنان لبنية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،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التاج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عدد أجزاء السن</a:t>
            </a: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ارن بين الأسنان اللبنيةوالأسنان الدائمة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ستقصي أهميةا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لأسنان للإنسان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قترح طرق للمحافظة عليها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بحث في بعض الامراض التي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 تصيب الأسنان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ت</a:t>
            </a:r>
            <a:r>
              <a:rPr b="1" lang="ar-JO" sz="2800" spc="-1" strike="noStrike">
                <a:solidFill>
                  <a:srgbClr val="000000"/>
                </a:solidFill>
                <a:latin typeface="Times New Roman"/>
              </a:rPr>
              <a:t>تفكر بقدرة الله عز وجل وإعجازه في خلقه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ahoma"/>
                <a:ea typeface="Tahoma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0" algn="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4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Picture 5" descr="C:\Users\adel\Desktop\فهرس.jpg"/>
          <p:cNvPicPr/>
          <p:nvPr/>
        </p:nvPicPr>
        <p:blipFill>
          <a:blip r:embed="rId2"/>
          <a:stretch/>
        </p:blipFill>
        <p:spPr>
          <a:xfrm>
            <a:off x="1000080" y="3286080"/>
            <a:ext cx="1643040" cy="221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564000" y="620280"/>
            <a:ext cx="2589120" cy="79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قدمة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4360" y="1628280"/>
            <a:ext cx="7772400" cy="40323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8000"/>
          </a:bodyPr>
          <a:p>
            <a:pPr marL="335880" indent="0" algn="r" rtl="1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000000"/>
                </a:solidFill>
                <a:latin typeface="Tahoma"/>
                <a:cs typeface="Tahoma"/>
              </a:rPr>
              <a:t>عزيزي الطالب لتنشط افكارك بحل اللغز التالي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lnSpc>
                <a:spcPct val="15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دخل والدان وابنان الى محل قبعات ليشترى كل واحد منهم قبعة فلما خرجوا لاحظ البائع انه لم يبع سوى ثلاثة قبعات فكيف ذلك؟</a:t>
            </a:r>
            <a:r>
              <a:rPr b="0" lang="ar-SA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6732720" y="5877000"/>
            <a:ext cx="1726920" cy="58140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00"/>
                </a:solidFill>
                <a:latin typeface="Times New Roman"/>
              </a:rPr>
              <a:t>الح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6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7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1763640" y="620280"/>
            <a:ext cx="5688000" cy="208764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t">
            <a:normAutofit fontScale="96000"/>
          </a:bodyPr>
          <a:p>
            <a:pPr marL="329040" indent="0" algn="ctr" rtl="1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800" spc="-1" strike="noStrike">
                <a:solidFill>
                  <a:srgbClr val="3333cc"/>
                </a:solidFill>
                <a:latin typeface="Times New Roman"/>
              </a:rPr>
              <a:t>الحل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 algn="ctr" rtl="1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000000"/>
                </a:solidFill>
                <a:latin typeface="Times New Roman"/>
              </a:rPr>
              <a:t>لأنهم كانوا اب و ابن وحفيد</a:t>
            </a:r>
            <a:r>
              <a:rPr b="0" lang="ar-SA" sz="40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4" descr="05072007-24258-1"/>
          <p:cNvPicPr/>
          <p:nvPr/>
        </p:nvPicPr>
        <p:blipFill>
          <a:blip r:embed="rId1"/>
          <a:stretch/>
        </p:blipFill>
        <p:spPr>
          <a:xfrm>
            <a:off x="3780000" y="3645000"/>
            <a:ext cx="1660320" cy="2077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5" descr="23"/>
          <p:cNvPicPr/>
          <p:nvPr/>
        </p:nvPicPr>
        <p:blipFill>
          <a:blip r:embed="rId2"/>
          <a:stretch/>
        </p:blipFill>
        <p:spPr>
          <a:xfrm>
            <a:off x="6443640" y="3573360"/>
            <a:ext cx="1619280" cy="2114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6" descr="jhL75552"/>
          <p:cNvPicPr/>
          <p:nvPr/>
        </p:nvPicPr>
        <p:blipFill>
          <a:blip r:embed="rId3"/>
          <a:stretch/>
        </p:blipFill>
        <p:spPr>
          <a:xfrm>
            <a:off x="1403280" y="3645000"/>
            <a:ext cx="1704960" cy="2071440"/>
          </a:xfrm>
          <a:prstGeom prst="rect">
            <a:avLst/>
          </a:prstGeom>
          <a:ln w="0">
            <a:noFill/>
          </a:ln>
        </p:spPr>
      </p:pic>
      <p:sp>
        <p:nvSpPr>
          <p:cNvPr id="85" name="AutoShape 7">
            <a:hlinkClick r:id="rId4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771640" y="692280"/>
            <a:ext cx="3456000" cy="84456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imes New Roman"/>
              </a:rPr>
              <a:t>الأسنان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73360"/>
            <a:ext cx="7772400" cy="3319200"/>
          </a:xfrm>
          <a:prstGeom prst="rect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r" rtl="1">
              <a:lnSpc>
                <a:spcPct val="12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3333cc"/>
                </a:solidFill>
                <a:latin typeface="Times New Roman"/>
              </a:rPr>
              <a:t>التمهيد للدر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لنشاهد معاً هذ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مقط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ما الذي تشاهده امام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على ماذا يدل ذلك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r" rtl="1">
              <a:lnSpc>
                <a:spcPct val="12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تخيل ماذا لو كان حجم ا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لسن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بحجم </a:t>
            </a:r>
            <a:r>
              <a:rPr b="0" lang="ar-JO" sz="2800" spc="-1" strike="noStrike">
                <a:solidFill>
                  <a:srgbClr val="000000"/>
                </a:solidFill>
                <a:latin typeface="Times New Roman"/>
              </a:rPr>
              <a:t>التل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 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Text Box 5"/>
          <p:cNvSpPr/>
          <p:nvPr/>
        </p:nvSpPr>
        <p:spPr>
          <a:xfrm>
            <a:off x="1692360" y="2708280"/>
            <a:ext cx="244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Text Box 6"/>
          <p:cNvSpPr/>
          <p:nvPr/>
        </p:nvSpPr>
        <p:spPr>
          <a:xfrm>
            <a:off x="857160" y="2565360"/>
            <a:ext cx="4143600" cy="10688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ww.youtube.com/watch?v=Uzc13_lvbd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7"/>
          <p:cNvSpPr/>
          <p:nvPr/>
        </p:nvSpPr>
        <p:spPr>
          <a:xfrm>
            <a:off x="468360" y="333360"/>
            <a:ext cx="1008000" cy="1081080"/>
          </a:xfrm>
          <a:prstGeom prst="irregularSeal1">
            <a:avLst/>
          </a:prstGeom>
          <a:solidFill>
            <a:srgbClr val="ecc6d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8">
            <a:hlinkClick r:id="rId1" action="ppaction://hlinksldjump"/>
          </p:cNvPr>
          <p:cNvSpPr/>
          <p:nvPr/>
        </p:nvSpPr>
        <p:spPr>
          <a:xfrm>
            <a:off x="3708360" y="5877000"/>
            <a:ext cx="1368360" cy="76500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000"/>
              <a:gd name="textAreaBottom" fmla="*/ 715680 h 765000"/>
            </a:gdLst>
            <a:ahLst/>
            <a:rect l="textAreaLeft" t="textAreaTop" r="textAreaRight" b="textAreaBottom"/>
            <a:pathLst>
              <a:path w="38628" h="21600">
                <a:moveTo>
                  <a:pt x="0" y="0"/>
                </a:moveTo>
                <a:lnTo>
                  <a:pt x="38628" y="0"/>
                </a:lnTo>
                <a:lnTo>
                  <a:pt x="38628" y="21600"/>
                </a:lnTo>
                <a:lnTo>
                  <a:pt x="0" y="21600"/>
                </a:lnTo>
                <a:close/>
              </a:path>
              <a:path fill="lightenLess" w="38628" h="21600">
                <a:moveTo>
                  <a:pt x="0" y="0"/>
                </a:moveTo>
                <a:lnTo>
                  <a:pt x="38628" y="0"/>
                </a:lnTo>
                <a:lnTo>
                  <a:pt x="37228" y="1400"/>
                </a:lnTo>
                <a:lnTo>
                  <a:pt x="1400" y="1400"/>
                </a:lnTo>
                <a:close/>
              </a:path>
              <a:path fill="darken" w="38628" h="21600">
                <a:moveTo>
                  <a:pt x="38628" y="0"/>
                </a:moveTo>
                <a:lnTo>
                  <a:pt x="38628" y="21600"/>
                </a:lnTo>
                <a:lnTo>
                  <a:pt x="37228" y="20200"/>
                </a:lnTo>
                <a:lnTo>
                  <a:pt x="37228" y="1400"/>
                </a:lnTo>
                <a:close/>
              </a:path>
              <a:path fill="darkenLess" w="38628" h="21600">
                <a:moveTo>
                  <a:pt x="386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28" y="20200"/>
                </a:lnTo>
                <a:close/>
              </a:path>
              <a:path fill="lighten" w="386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28" h="21600">
                <a:moveTo>
                  <a:pt x="19314" y="3837"/>
                </a:moveTo>
                <a:lnTo>
                  <a:pt x="21890" y="6448"/>
                </a:ln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lnTo>
                  <a:pt x="26277" y="10800"/>
                </a:lnTo>
                <a:lnTo>
                  <a:pt x="24623" y="10800"/>
                </a:lnTo>
                <a:lnTo>
                  <a:pt x="24623" y="17989"/>
                </a:lnTo>
                <a:lnTo>
                  <a:pt x="14005" y="17989"/>
                </a:lnTo>
                <a:lnTo>
                  <a:pt x="14005" y="10800"/>
                </a:lnTo>
                <a:lnTo>
                  <a:pt x="12351" y="10800"/>
                </a:lnTo>
                <a:close/>
              </a:path>
              <a:path fill="darkenLess" w="38628" h="21600">
                <a:moveTo>
                  <a:pt x="21890" y="6448"/>
                </a:moveTo>
                <a:lnTo>
                  <a:pt x="21890" y="4707"/>
                </a:lnTo>
                <a:lnTo>
                  <a:pt x="23666" y="4707"/>
                </a:lnTo>
                <a:lnTo>
                  <a:pt x="23666" y="8224"/>
                </a:lnTo>
                <a:close/>
              </a:path>
              <a:path fill="darkenLess" w="38628" h="21600">
                <a:moveTo>
                  <a:pt x="18391" y="14299"/>
                </a:moveTo>
                <a:lnTo>
                  <a:pt x="20237" y="14299"/>
                </a:lnTo>
                <a:lnTo>
                  <a:pt x="20237" y="17989"/>
                </a:lnTo>
                <a:lnTo>
                  <a:pt x="24623" y="17989"/>
                </a:lnTo>
                <a:lnTo>
                  <a:pt x="24623" y="10800"/>
                </a:lnTo>
                <a:lnTo>
                  <a:pt x="14005" y="10800"/>
                </a:lnTo>
                <a:lnTo>
                  <a:pt x="14005" y="17989"/>
                </a:lnTo>
                <a:lnTo>
                  <a:pt x="18391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10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12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14"/>
          <p:cNvSpPr/>
          <p:nvPr/>
        </p:nvSpPr>
        <p:spPr>
          <a:xfrm>
            <a:off x="8535960" y="-1058760"/>
            <a:ext cx="2057400" cy="22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16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8"/>
          <p:cNvSpPr/>
          <p:nvPr/>
        </p:nvSpPr>
        <p:spPr>
          <a:xfrm>
            <a:off x="8583480" y="-944640"/>
            <a:ext cx="2314800" cy="197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20"/>
          <p:cNvSpPr/>
          <p:nvPr/>
        </p:nvSpPr>
        <p:spPr>
          <a:xfrm>
            <a:off x="8916840" y="-18252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22" descr="C:\Users\adel\Desktop\فهرس.jpg"/>
          <p:cNvPicPr/>
          <p:nvPr/>
        </p:nvPicPr>
        <p:blipFill>
          <a:blip r:embed="rId2"/>
          <a:stretch/>
        </p:blipFill>
        <p:spPr>
          <a:xfrm>
            <a:off x="6858000" y="0"/>
            <a:ext cx="2057400" cy="16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76720" y="333000"/>
            <a:ext cx="2808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مهام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Picture 5" descr="58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211640" y="3500280"/>
            <a:ext cx="1104840" cy="110520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6" descr="87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1547640" y="2924280"/>
            <a:ext cx="1305000" cy="971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7" descr="35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5435640" y="5084640"/>
            <a:ext cx="1162080" cy="1123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8" descr="369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067280" y="1773360"/>
            <a:ext cx="1199880" cy="121896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9" descr="CAQXSDEN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6443640" y="3068640"/>
            <a:ext cx="1135080" cy="1219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10" descr="39193766700_lg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2411280" y="4437000"/>
            <a:ext cx="1638360" cy="201780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1"/>
          <p:cNvSpPr/>
          <p:nvPr/>
        </p:nvSpPr>
        <p:spPr>
          <a:xfrm>
            <a:off x="395280" y="907920"/>
            <a:ext cx="1944720" cy="947520"/>
          </a:xfrm>
          <a:prstGeom prst="rect">
            <a:avLst/>
          </a:pr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000000"/>
                </a:solidFill>
                <a:latin typeface="Times New Roman"/>
              </a:rPr>
              <a:t>ارتد القبعة المناسبة لتعرف ما هي مهمتك</a:t>
            </a:r>
            <a:r>
              <a:rPr b="1" lang="ar-SA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12">
            <a:hlinkClick r:id="rId13" action="ppaction://hlinksldjump"/>
          </p:cNvPr>
          <p:cNvSpPr/>
          <p:nvPr/>
        </p:nvSpPr>
        <p:spPr>
          <a:xfrm>
            <a:off x="7380360" y="5805360"/>
            <a:ext cx="1368360" cy="765360"/>
          </a:xfrm>
          <a:custGeom>
            <a:avLst/>
            <a:gdLst>
              <a:gd name="textAreaLeft" fmla="*/ 49320 w 1368360"/>
              <a:gd name="textAreaRight" fmla="*/ 1319040 w 1368360"/>
              <a:gd name="textAreaTop" fmla="*/ 49320 h 765360"/>
              <a:gd name="textAreaBottom" fmla="*/ 716040 h 765360"/>
            </a:gdLst>
            <a:ahLst/>
            <a:rect l="textAreaLeft" t="textAreaTop" r="textAreaRight" b="textAreaBottom"/>
            <a:pathLst>
              <a:path w="38610" h="21600">
                <a:moveTo>
                  <a:pt x="0" y="0"/>
                </a:moveTo>
                <a:lnTo>
                  <a:pt x="38610" y="0"/>
                </a:lnTo>
                <a:lnTo>
                  <a:pt x="38610" y="21600"/>
                </a:lnTo>
                <a:lnTo>
                  <a:pt x="0" y="21600"/>
                </a:lnTo>
                <a:close/>
              </a:path>
              <a:path fill="lightenLess" w="38610" h="21600">
                <a:moveTo>
                  <a:pt x="0" y="0"/>
                </a:moveTo>
                <a:lnTo>
                  <a:pt x="38610" y="0"/>
                </a:lnTo>
                <a:lnTo>
                  <a:pt x="37210" y="1400"/>
                </a:lnTo>
                <a:lnTo>
                  <a:pt x="1400" y="1400"/>
                </a:lnTo>
                <a:close/>
              </a:path>
              <a:path fill="darken" w="38610" h="21600">
                <a:moveTo>
                  <a:pt x="38610" y="0"/>
                </a:moveTo>
                <a:lnTo>
                  <a:pt x="38610" y="21600"/>
                </a:lnTo>
                <a:lnTo>
                  <a:pt x="37210" y="20200"/>
                </a:lnTo>
                <a:lnTo>
                  <a:pt x="37210" y="1400"/>
                </a:lnTo>
                <a:close/>
              </a:path>
              <a:path fill="darkenLess" w="38610" h="21600">
                <a:moveTo>
                  <a:pt x="3861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7210" y="20200"/>
                </a:lnTo>
                <a:close/>
              </a:path>
              <a:path fill="lighten" w="3861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8610" h="21600">
                <a:moveTo>
                  <a:pt x="19305" y="3837"/>
                </a:moveTo>
                <a:lnTo>
                  <a:pt x="21881" y="6448"/>
                </a:ln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lnTo>
                  <a:pt x="26268" y="10800"/>
                </a:lnTo>
                <a:lnTo>
                  <a:pt x="24614" y="10800"/>
                </a:lnTo>
                <a:lnTo>
                  <a:pt x="24614" y="17989"/>
                </a:lnTo>
                <a:lnTo>
                  <a:pt x="13996" y="17989"/>
                </a:lnTo>
                <a:lnTo>
                  <a:pt x="13996" y="10800"/>
                </a:lnTo>
                <a:lnTo>
                  <a:pt x="12342" y="10800"/>
                </a:lnTo>
                <a:close/>
              </a:path>
              <a:path fill="darkenLess" w="38610" h="21600">
                <a:moveTo>
                  <a:pt x="21881" y="6448"/>
                </a:moveTo>
                <a:lnTo>
                  <a:pt x="21881" y="4707"/>
                </a:lnTo>
                <a:lnTo>
                  <a:pt x="23657" y="4707"/>
                </a:lnTo>
                <a:lnTo>
                  <a:pt x="23657" y="8224"/>
                </a:lnTo>
                <a:close/>
              </a:path>
              <a:path fill="darkenLess" w="38610" h="21600">
                <a:moveTo>
                  <a:pt x="18382" y="14299"/>
                </a:moveTo>
                <a:lnTo>
                  <a:pt x="20228" y="14299"/>
                </a:lnTo>
                <a:lnTo>
                  <a:pt x="20228" y="17989"/>
                </a:lnTo>
                <a:lnTo>
                  <a:pt x="24614" y="17989"/>
                </a:lnTo>
                <a:lnTo>
                  <a:pt x="24614" y="10800"/>
                </a:lnTo>
                <a:lnTo>
                  <a:pt x="13996" y="10800"/>
                </a:lnTo>
                <a:lnTo>
                  <a:pt x="13996" y="17989"/>
                </a:lnTo>
                <a:lnTo>
                  <a:pt x="18382" y="17989"/>
                </a:lnTo>
                <a:close/>
              </a:path>
            </a:pathLst>
          </a:custGeom>
          <a:solidFill>
            <a:srgbClr val="ecc6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355640" y="620280"/>
            <a:ext cx="41734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000000"/>
                </a:solidFill>
                <a:latin typeface="Tahoma"/>
                <a:cs typeface="Tahoma"/>
              </a:rPr>
              <a:t>القبعة البيضاء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857240" y="1915920"/>
            <a:ext cx="5740560" cy="301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1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اذكر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جزاء السن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2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عدد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أنواع الأسنان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3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-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قارن بين الأسنان اللبنية والأسنان الدائمة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4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- ارسم خارطة ذهنية تبين ما توصلت اليه </a:t>
            </a:r>
            <a:r>
              <a:rPr b="1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cs typeface="Tahoma"/>
              </a:rPr>
              <a:t>باستخدام برمجية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kidspiratio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ar-JO" sz="2400" spc="-1" strike="noStrike">
                <a:solidFill>
                  <a:srgbClr val="000000"/>
                </a:solidFill>
                <a:latin typeface="Tahoma"/>
                <a:ea typeface="Tahoma"/>
              </a:rPr>
              <a:t>)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  <a:cs typeface="Tahoma"/>
              </a:rPr>
              <a:t>يمكنك الاستعانة بالموقع الاتي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468360" y="6021360"/>
            <a:ext cx="1523880" cy="439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1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2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Picture 10" descr="369"/>
          <p:cNvPicPr/>
          <p:nvPr/>
        </p:nvPicPr>
        <p:blipFill>
          <a:blip r:embed="rId3"/>
          <a:stretch/>
        </p:blipFill>
        <p:spPr>
          <a:xfrm>
            <a:off x="539640" y="765000"/>
            <a:ext cx="2266920" cy="230364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11"/>
          <p:cNvSpPr/>
          <p:nvPr/>
        </p:nvSpPr>
        <p:spPr>
          <a:xfrm>
            <a:off x="3643200" y="4857840"/>
            <a:ext cx="4694400" cy="1894320"/>
          </a:xfrm>
          <a:prstGeom prst="rect">
            <a:avLst/>
          </a:prstGeom>
          <a:solidFill>
            <a:srgbClr val="a5a5a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ccccff"/>
                </a:solidFill>
                <a:uFillTx/>
                <a:latin typeface="Times New Roman"/>
                <a:hlinkClick r:id="rId4"/>
              </a:rPr>
              <a:t>http://ar.wikipedia.org/wiki/%D8%B3%D9%86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http://www.slideshare.net/Hetaf/ss-635024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14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5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يق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284720" y="620280"/>
            <a:ext cx="4246560" cy="1143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ctr">
            <a:noAutofit/>
          </a:bodyPr>
          <a:p>
            <a:pPr indent="0" algn="ct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4400" spc="-1" strike="noStrike">
                <a:solidFill>
                  <a:srgbClr val="ffffff"/>
                </a:solidFill>
                <a:latin typeface="Tahoma"/>
                <a:cs typeface="Tahoma"/>
              </a:rPr>
              <a:t>القبعة السوداء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6" descr="black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332000" y="189000"/>
            <a:ext cx="1512720" cy="151272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11280" y="1844640"/>
            <a:ext cx="7989840" cy="2736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anchor="t">
            <a:normAutofit fontScale="85000"/>
          </a:bodyPr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  <a:cs typeface="Tahoma"/>
              </a:rPr>
              <a:t>ا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بحث في بعض الامراض التي ت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صيب الأسنان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ffffff"/>
                </a:solidFill>
                <a:latin typeface="Tahoma"/>
                <a:ea typeface="Tahoma"/>
              </a:rPr>
              <a:t>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JO" sz="2400" spc="-1" strike="noStrike">
                <a:solidFill>
                  <a:srgbClr val="ffffff"/>
                </a:solidFill>
                <a:latin typeface="Tahoma"/>
                <a:cs typeface="Tahoma"/>
              </a:rPr>
              <a:t>ابحث في أهم الأسباب التي تسبب مرض التسوس؟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-453240" algn="r" rtl="1">
              <a:lnSpc>
                <a:spcPct val="130000"/>
              </a:lnSpc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 هنالك </a:t>
            </a:r>
            <a:r>
              <a:rPr b="1" lang="ar-JO" sz="2400" spc="-1" strike="noStrike">
                <a:solidFill>
                  <a:srgbClr val="ffffff"/>
                </a:solidFill>
                <a:latin typeface="Arial"/>
              </a:rPr>
              <a:t>أمراض أخرى تصيب الأسنان غير التسوس</a:t>
            </a: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”، فسر هذه العبار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13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يمكنك اعداد نشرة بسيطة</a:t>
            </a:r>
            <a:r>
              <a:rPr b="1" lang="ar-JO" sz="2400" spc="-1" strike="noStrike">
                <a:solidFill>
                  <a:srgbClr val="ffffff"/>
                </a:solidFill>
                <a:latin typeface="Times New Roman"/>
              </a:rPr>
              <a:t>حول هذه الأمراض</a:t>
            </a:r>
            <a:r>
              <a:rPr b="1" lang="ar-SA" sz="2400" spc="-1" strike="noStrike">
                <a:solidFill>
                  <a:srgbClr val="ffffff"/>
                </a:solidFill>
                <a:latin typeface="Times New Roman"/>
              </a:rPr>
              <a:t> حول باستخدام برمجية ال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Publis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324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Text Box 8" descr=""/>
          <p:cNvPicPr/>
          <p:nvPr/>
        </p:nvPicPr>
        <p:blipFill>
          <a:blip r:embed="rId3"/>
          <a:stretch/>
        </p:blipFill>
        <p:spPr>
          <a:xfrm>
            <a:off x="493560" y="4925880"/>
            <a:ext cx="8077320" cy="97488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9"/>
          <p:cNvSpPr/>
          <p:nvPr/>
        </p:nvSpPr>
        <p:spPr>
          <a:xfrm>
            <a:off x="611280" y="6093000"/>
            <a:ext cx="1523880" cy="4395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ccccff"/>
                </a:solidFill>
                <a:uFillTx/>
                <a:latin typeface="Tahoma"/>
                <a:cs typeface="Tahoma"/>
                <a:hlinkClick r:id="rId4" action="ppaction://hlinksldjump"/>
              </a:rPr>
              <a:t>رجوع</a:t>
            </a:r>
            <a:r>
              <a:rPr b="0" lang="ar-JO" sz="2000" spc="-1" strike="noStrike" u="sng">
                <a:solidFill>
                  <a:srgbClr val="ccccff"/>
                </a:solidFill>
                <a:uFillTx/>
                <a:latin typeface="Tahoma"/>
                <a:ea typeface="Tahoma"/>
                <a:hlinkClick r:id="rId5" action="ppaction://hlinksldjump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11"/>
          <p:cNvSpPr/>
          <p:nvPr/>
        </p:nvSpPr>
        <p:spPr>
          <a:xfrm>
            <a:off x="0" y="0"/>
            <a:ext cx="1620720" cy="1125360"/>
          </a:xfrm>
          <a:prstGeom prst="irregularSeal1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10</a:t>
            </a:r>
            <a:r>
              <a:rPr b="1" lang="ar-SA" sz="1600" spc="-1" strike="noStrike">
                <a:solidFill>
                  <a:srgbClr val="000000"/>
                </a:solidFill>
                <a:latin typeface="Times New Roman"/>
              </a:rPr>
              <a:t> دقائق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8-02-26T05:47:33Z</dcterms:modified>
  <cp:revision>268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